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499-652B-458A-A91F-4CE020E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E8D-5BBF-44D0-9ADB-BFD677C6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2FF-9377-4739-A0D2-BEFFCE19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541-8976-4258-ABB4-258E855E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AC3-E160-4C0F-AD33-C9EE966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F90-C2C1-4873-B5C1-7A3A594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D2C-DF8D-4B72-8688-FE21B3B2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35E-0F59-47B0-909A-49A4FFE0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78F-2C10-4F4C-9729-F62E697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205-E421-4190-98C8-7C7B321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B59-50E3-481A-9359-96A751F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657-02FC-4DBB-AAF0-12FF326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159-1F8B-438B-A164-4B0B8C85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alex1%5B1%5D.wav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228600"/>
          <a:ext cx="69609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69609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53080" y="1981080"/>
            <a:ext cx="198144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114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color            or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76320"/>
          <a:ext cx="154620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15462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14360" y="2604960"/>
            <a:ext cx="1914480" cy="3643560"/>
          </a:xfrm>
          <a:custGeom>
            <a:avLst/>
            <a:gdLst/>
            <a:ahLst/>
            <a:rect l="l" t="t" r="r" b="b"/>
            <a:pathLst>
              <a:path w="1206" h="2295">
                <a:moveTo>
                  <a:pt x="153" y="0"/>
                </a:moveTo>
                <a:cubicBezTo>
                  <a:pt x="144" y="9"/>
                  <a:pt x="133" y="17"/>
                  <a:pt x="126" y="27"/>
                </a:cubicBezTo>
                <a:cubicBezTo>
                  <a:pt x="118" y="38"/>
                  <a:pt x="117" y="53"/>
                  <a:pt x="108" y="63"/>
                </a:cubicBezTo>
                <a:cubicBezTo>
                  <a:pt x="93" y="81"/>
                  <a:pt x="71" y="91"/>
                  <a:pt x="54" y="108"/>
                </a:cubicBezTo>
                <a:cubicBezTo>
                  <a:pt x="36" y="180"/>
                  <a:pt x="59" y="109"/>
                  <a:pt x="18" y="180"/>
                </a:cubicBezTo>
                <a:cubicBezTo>
                  <a:pt x="8" y="198"/>
                  <a:pt x="2" y="248"/>
                  <a:pt x="0" y="261"/>
                </a:cubicBezTo>
                <a:cubicBezTo>
                  <a:pt x="3" y="300"/>
                  <a:pt x="2" y="339"/>
                  <a:pt x="9" y="378"/>
                </a:cubicBezTo>
                <a:cubicBezTo>
                  <a:pt x="11" y="391"/>
                  <a:pt x="22" y="401"/>
                  <a:pt x="27" y="414"/>
                </a:cubicBezTo>
                <a:cubicBezTo>
                  <a:pt x="64" y="514"/>
                  <a:pt x="122" y="545"/>
                  <a:pt x="198" y="612"/>
                </a:cubicBezTo>
                <a:cubicBezTo>
                  <a:pt x="260" y="666"/>
                  <a:pt x="269" y="707"/>
                  <a:pt x="342" y="756"/>
                </a:cubicBezTo>
                <a:cubicBezTo>
                  <a:pt x="368" y="834"/>
                  <a:pt x="325" y="711"/>
                  <a:pt x="378" y="828"/>
                </a:cubicBezTo>
                <a:cubicBezTo>
                  <a:pt x="386" y="845"/>
                  <a:pt x="396" y="882"/>
                  <a:pt x="396" y="882"/>
                </a:cubicBezTo>
                <a:cubicBezTo>
                  <a:pt x="384" y="944"/>
                  <a:pt x="356" y="991"/>
                  <a:pt x="324" y="1044"/>
                </a:cubicBezTo>
                <a:cubicBezTo>
                  <a:pt x="313" y="1063"/>
                  <a:pt x="288" y="1098"/>
                  <a:pt x="288" y="1098"/>
                </a:cubicBezTo>
                <a:cubicBezTo>
                  <a:pt x="268" y="1177"/>
                  <a:pt x="241" y="1252"/>
                  <a:pt x="225" y="1332"/>
                </a:cubicBezTo>
                <a:cubicBezTo>
                  <a:pt x="228" y="1374"/>
                  <a:pt x="224" y="1417"/>
                  <a:pt x="234" y="1458"/>
                </a:cubicBezTo>
                <a:cubicBezTo>
                  <a:pt x="248" y="1513"/>
                  <a:pt x="317" y="1561"/>
                  <a:pt x="360" y="1593"/>
                </a:cubicBezTo>
                <a:cubicBezTo>
                  <a:pt x="372" y="1630"/>
                  <a:pt x="402" y="1646"/>
                  <a:pt x="414" y="1683"/>
                </a:cubicBezTo>
                <a:cubicBezTo>
                  <a:pt x="406" y="1759"/>
                  <a:pt x="392" y="1786"/>
                  <a:pt x="369" y="1854"/>
                </a:cubicBezTo>
                <a:cubicBezTo>
                  <a:pt x="356" y="1943"/>
                  <a:pt x="327" y="2062"/>
                  <a:pt x="432" y="2097"/>
                </a:cubicBezTo>
                <a:cubicBezTo>
                  <a:pt x="482" y="2147"/>
                  <a:pt x="498" y="2166"/>
                  <a:pt x="567" y="2178"/>
                </a:cubicBezTo>
                <a:cubicBezTo>
                  <a:pt x="693" y="2272"/>
                  <a:pt x="876" y="2276"/>
                  <a:pt x="1026" y="2295"/>
                </a:cubicBezTo>
                <a:cubicBezTo>
                  <a:pt x="1077" y="2288"/>
                  <a:pt x="1128" y="2285"/>
                  <a:pt x="1179" y="2277"/>
                </a:cubicBezTo>
                <a:cubicBezTo>
                  <a:pt x="1188" y="2276"/>
                  <a:pt x="1206" y="2268"/>
                  <a:pt x="1206" y="2268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0" y="76320"/>
          <a:ext cx="154620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320"/>
                    <a:ext cx="15462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14360" y="2604960"/>
            <a:ext cx="1914480" cy="3643560"/>
          </a:xfrm>
          <a:custGeom>
            <a:avLst/>
            <a:gdLst/>
            <a:ahLst/>
            <a:rect l="l" t="t" r="r" b="b"/>
            <a:pathLst>
              <a:path w="1206" h="2295">
                <a:moveTo>
                  <a:pt x="153" y="0"/>
                </a:moveTo>
                <a:cubicBezTo>
                  <a:pt x="144" y="9"/>
                  <a:pt x="133" y="17"/>
                  <a:pt x="126" y="27"/>
                </a:cubicBezTo>
                <a:cubicBezTo>
                  <a:pt x="118" y="38"/>
                  <a:pt x="117" y="53"/>
                  <a:pt x="108" y="63"/>
                </a:cubicBezTo>
                <a:cubicBezTo>
                  <a:pt x="93" y="81"/>
                  <a:pt x="71" y="91"/>
                  <a:pt x="54" y="108"/>
                </a:cubicBezTo>
                <a:cubicBezTo>
                  <a:pt x="36" y="180"/>
                  <a:pt x="59" y="109"/>
                  <a:pt x="18" y="180"/>
                </a:cubicBezTo>
                <a:cubicBezTo>
                  <a:pt x="8" y="198"/>
                  <a:pt x="2" y="248"/>
                  <a:pt x="0" y="261"/>
                </a:cubicBezTo>
                <a:cubicBezTo>
                  <a:pt x="3" y="300"/>
                  <a:pt x="2" y="339"/>
                  <a:pt x="9" y="378"/>
                </a:cubicBezTo>
                <a:cubicBezTo>
                  <a:pt x="11" y="391"/>
                  <a:pt x="22" y="401"/>
                  <a:pt x="27" y="414"/>
                </a:cubicBezTo>
                <a:cubicBezTo>
                  <a:pt x="64" y="514"/>
                  <a:pt x="122" y="545"/>
                  <a:pt x="198" y="612"/>
                </a:cubicBezTo>
                <a:cubicBezTo>
                  <a:pt x="260" y="666"/>
                  <a:pt x="269" y="707"/>
                  <a:pt x="342" y="756"/>
                </a:cubicBezTo>
                <a:cubicBezTo>
                  <a:pt x="368" y="834"/>
                  <a:pt x="325" y="711"/>
                  <a:pt x="378" y="828"/>
                </a:cubicBezTo>
                <a:cubicBezTo>
                  <a:pt x="386" y="845"/>
                  <a:pt x="396" y="882"/>
                  <a:pt x="396" y="882"/>
                </a:cubicBezTo>
                <a:cubicBezTo>
                  <a:pt x="384" y="944"/>
                  <a:pt x="356" y="991"/>
                  <a:pt x="324" y="1044"/>
                </a:cubicBezTo>
                <a:cubicBezTo>
                  <a:pt x="313" y="1063"/>
                  <a:pt x="288" y="1098"/>
                  <a:pt x="288" y="1098"/>
                </a:cubicBezTo>
                <a:cubicBezTo>
                  <a:pt x="268" y="1177"/>
                  <a:pt x="241" y="1252"/>
                  <a:pt x="225" y="1332"/>
                </a:cubicBezTo>
                <a:cubicBezTo>
                  <a:pt x="228" y="1374"/>
                  <a:pt x="224" y="1417"/>
                  <a:pt x="234" y="1458"/>
                </a:cubicBezTo>
                <a:cubicBezTo>
                  <a:pt x="248" y="1513"/>
                  <a:pt x="317" y="1561"/>
                  <a:pt x="360" y="1593"/>
                </a:cubicBezTo>
                <a:cubicBezTo>
                  <a:pt x="372" y="1630"/>
                  <a:pt x="402" y="1646"/>
                  <a:pt x="414" y="1683"/>
                </a:cubicBezTo>
                <a:cubicBezTo>
                  <a:pt x="406" y="1759"/>
                  <a:pt x="392" y="1786"/>
                  <a:pt x="369" y="1854"/>
                </a:cubicBezTo>
                <a:cubicBezTo>
                  <a:pt x="356" y="1943"/>
                  <a:pt x="327" y="2062"/>
                  <a:pt x="432" y="2097"/>
                </a:cubicBezTo>
                <a:cubicBezTo>
                  <a:pt x="482" y="2147"/>
                  <a:pt x="498" y="2166"/>
                  <a:pt x="567" y="2178"/>
                </a:cubicBezTo>
                <a:cubicBezTo>
                  <a:pt x="693" y="2272"/>
                  <a:pt x="876" y="2276"/>
                  <a:pt x="1026" y="2295"/>
                </a:cubicBezTo>
                <a:cubicBezTo>
                  <a:pt x="1077" y="2288"/>
                  <a:pt x="1128" y="2285"/>
                  <a:pt x="1179" y="2277"/>
                </a:cubicBezTo>
                <a:cubicBezTo>
                  <a:pt x="1188" y="2276"/>
                  <a:pt x="1206" y="2268"/>
                  <a:pt x="1206" y="2268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219320" y="2057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-228600" y="457200"/>
          <a:ext cx="154620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457200"/>
                    <a:ext cx="15462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85760" y="3014640"/>
            <a:ext cx="1914480" cy="3643200"/>
          </a:xfrm>
          <a:custGeom>
            <a:avLst/>
            <a:gdLst/>
            <a:ahLst/>
            <a:rect l="l" t="t" r="r" b="b"/>
            <a:pathLst>
              <a:path w="1206" h="2295">
                <a:moveTo>
                  <a:pt x="153" y="0"/>
                </a:moveTo>
                <a:cubicBezTo>
                  <a:pt x="144" y="9"/>
                  <a:pt x="133" y="17"/>
                  <a:pt x="126" y="27"/>
                </a:cubicBezTo>
                <a:cubicBezTo>
                  <a:pt x="118" y="38"/>
                  <a:pt x="117" y="53"/>
                  <a:pt x="108" y="63"/>
                </a:cubicBezTo>
                <a:cubicBezTo>
                  <a:pt x="93" y="81"/>
                  <a:pt x="71" y="91"/>
                  <a:pt x="54" y="108"/>
                </a:cubicBezTo>
                <a:cubicBezTo>
                  <a:pt x="36" y="180"/>
                  <a:pt x="59" y="109"/>
                  <a:pt x="18" y="180"/>
                </a:cubicBezTo>
                <a:cubicBezTo>
                  <a:pt x="8" y="198"/>
                  <a:pt x="2" y="248"/>
                  <a:pt x="0" y="261"/>
                </a:cubicBezTo>
                <a:cubicBezTo>
                  <a:pt x="3" y="300"/>
                  <a:pt x="2" y="339"/>
                  <a:pt x="9" y="378"/>
                </a:cubicBezTo>
                <a:cubicBezTo>
                  <a:pt x="11" y="391"/>
                  <a:pt x="22" y="401"/>
                  <a:pt x="27" y="414"/>
                </a:cubicBezTo>
                <a:cubicBezTo>
                  <a:pt x="64" y="514"/>
                  <a:pt x="122" y="545"/>
                  <a:pt x="198" y="612"/>
                </a:cubicBezTo>
                <a:cubicBezTo>
                  <a:pt x="260" y="666"/>
                  <a:pt x="269" y="707"/>
                  <a:pt x="342" y="756"/>
                </a:cubicBezTo>
                <a:cubicBezTo>
                  <a:pt x="368" y="834"/>
                  <a:pt x="325" y="711"/>
                  <a:pt x="378" y="828"/>
                </a:cubicBezTo>
                <a:cubicBezTo>
                  <a:pt x="386" y="845"/>
                  <a:pt x="396" y="882"/>
                  <a:pt x="396" y="882"/>
                </a:cubicBezTo>
                <a:cubicBezTo>
                  <a:pt x="384" y="944"/>
                  <a:pt x="356" y="991"/>
                  <a:pt x="324" y="1044"/>
                </a:cubicBezTo>
                <a:cubicBezTo>
                  <a:pt x="313" y="1063"/>
                  <a:pt x="288" y="1098"/>
                  <a:pt x="288" y="1098"/>
                </a:cubicBezTo>
                <a:cubicBezTo>
                  <a:pt x="268" y="1177"/>
                  <a:pt x="241" y="1252"/>
                  <a:pt x="225" y="1332"/>
                </a:cubicBezTo>
                <a:cubicBezTo>
                  <a:pt x="228" y="1374"/>
                  <a:pt x="224" y="1417"/>
                  <a:pt x="234" y="1458"/>
                </a:cubicBezTo>
                <a:cubicBezTo>
                  <a:pt x="248" y="1513"/>
                  <a:pt x="317" y="1561"/>
                  <a:pt x="360" y="1593"/>
                </a:cubicBezTo>
                <a:cubicBezTo>
                  <a:pt x="372" y="1630"/>
                  <a:pt x="402" y="1646"/>
                  <a:pt x="414" y="1683"/>
                </a:cubicBezTo>
                <a:cubicBezTo>
                  <a:pt x="406" y="1759"/>
                  <a:pt x="392" y="1786"/>
                  <a:pt x="369" y="1854"/>
                </a:cubicBezTo>
                <a:cubicBezTo>
                  <a:pt x="356" y="1943"/>
                  <a:pt x="327" y="2062"/>
                  <a:pt x="432" y="2097"/>
                </a:cubicBezTo>
                <a:cubicBezTo>
                  <a:pt x="482" y="2147"/>
                  <a:pt x="498" y="2166"/>
                  <a:pt x="567" y="2178"/>
                </a:cubicBezTo>
                <a:cubicBezTo>
                  <a:pt x="693" y="2272"/>
                  <a:pt x="876" y="2276"/>
                  <a:pt x="1026" y="2295"/>
                </a:cubicBezTo>
                <a:cubicBezTo>
                  <a:pt x="1077" y="2288"/>
                  <a:pt x="1128" y="2285"/>
                  <a:pt x="1179" y="2277"/>
                </a:cubicBezTo>
                <a:cubicBezTo>
                  <a:pt x="1188" y="2276"/>
                  <a:pt x="1206" y="2268"/>
                  <a:pt x="1206" y="2268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-152280" y="457200"/>
          <a:ext cx="154620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457200"/>
                    <a:ext cx="15462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14360" y="2833560"/>
            <a:ext cx="1914480" cy="3643560"/>
          </a:xfrm>
          <a:custGeom>
            <a:avLst/>
            <a:gdLst/>
            <a:ahLst/>
            <a:rect l="l" t="t" r="r" b="b"/>
            <a:pathLst>
              <a:path w="1206" h="2295">
                <a:moveTo>
                  <a:pt x="153" y="0"/>
                </a:moveTo>
                <a:cubicBezTo>
                  <a:pt x="144" y="9"/>
                  <a:pt x="133" y="17"/>
                  <a:pt x="126" y="27"/>
                </a:cubicBezTo>
                <a:cubicBezTo>
                  <a:pt x="118" y="38"/>
                  <a:pt x="117" y="53"/>
                  <a:pt x="108" y="63"/>
                </a:cubicBezTo>
                <a:cubicBezTo>
                  <a:pt x="93" y="81"/>
                  <a:pt x="71" y="91"/>
                  <a:pt x="54" y="108"/>
                </a:cubicBezTo>
                <a:cubicBezTo>
                  <a:pt x="36" y="180"/>
                  <a:pt x="59" y="109"/>
                  <a:pt x="18" y="180"/>
                </a:cubicBezTo>
                <a:cubicBezTo>
                  <a:pt x="8" y="198"/>
                  <a:pt x="2" y="248"/>
                  <a:pt x="0" y="261"/>
                </a:cubicBezTo>
                <a:cubicBezTo>
                  <a:pt x="3" y="300"/>
                  <a:pt x="2" y="339"/>
                  <a:pt x="9" y="378"/>
                </a:cubicBezTo>
                <a:cubicBezTo>
                  <a:pt x="11" y="391"/>
                  <a:pt x="22" y="401"/>
                  <a:pt x="27" y="414"/>
                </a:cubicBezTo>
                <a:cubicBezTo>
                  <a:pt x="64" y="514"/>
                  <a:pt x="122" y="545"/>
                  <a:pt x="198" y="612"/>
                </a:cubicBezTo>
                <a:cubicBezTo>
                  <a:pt x="260" y="666"/>
                  <a:pt x="269" y="707"/>
                  <a:pt x="342" y="756"/>
                </a:cubicBezTo>
                <a:cubicBezTo>
                  <a:pt x="368" y="834"/>
                  <a:pt x="325" y="711"/>
                  <a:pt x="378" y="828"/>
                </a:cubicBezTo>
                <a:cubicBezTo>
                  <a:pt x="386" y="845"/>
                  <a:pt x="396" y="882"/>
                  <a:pt x="396" y="882"/>
                </a:cubicBezTo>
                <a:cubicBezTo>
                  <a:pt x="384" y="944"/>
                  <a:pt x="356" y="991"/>
                  <a:pt x="324" y="1044"/>
                </a:cubicBezTo>
                <a:cubicBezTo>
                  <a:pt x="313" y="1063"/>
                  <a:pt x="288" y="1098"/>
                  <a:pt x="288" y="1098"/>
                </a:cubicBezTo>
                <a:cubicBezTo>
                  <a:pt x="268" y="1177"/>
                  <a:pt x="241" y="1252"/>
                  <a:pt x="225" y="1332"/>
                </a:cubicBezTo>
                <a:cubicBezTo>
                  <a:pt x="228" y="1374"/>
                  <a:pt x="224" y="1417"/>
                  <a:pt x="234" y="1458"/>
                </a:cubicBezTo>
                <a:cubicBezTo>
                  <a:pt x="248" y="1513"/>
                  <a:pt x="317" y="1561"/>
                  <a:pt x="360" y="1593"/>
                </a:cubicBezTo>
                <a:cubicBezTo>
                  <a:pt x="372" y="1630"/>
                  <a:pt x="402" y="1646"/>
                  <a:pt x="414" y="1683"/>
                </a:cubicBezTo>
                <a:cubicBezTo>
                  <a:pt x="406" y="1759"/>
                  <a:pt x="392" y="1786"/>
                  <a:pt x="369" y="1854"/>
                </a:cubicBezTo>
                <a:cubicBezTo>
                  <a:pt x="356" y="1943"/>
                  <a:pt x="327" y="2062"/>
                  <a:pt x="432" y="2097"/>
                </a:cubicBezTo>
                <a:cubicBezTo>
                  <a:pt x="482" y="2147"/>
                  <a:pt x="498" y="2166"/>
                  <a:pt x="567" y="2178"/>
                </a:cubicBezTo>
                <a:cubicBezTo>
                  <a:pt x="693" y="2272"/>
                  <a:pt x="876" y="2276"/>
                  <a:pt x="1026" y="2295"/>
                </a:cubicBezTo>
                <a:cubicBezTo>
                  <a:pt x="1077" y="2288"/>
                  <a:pt x="1128" y="2285"/>
                  <a:pt x="1179" y="2277"/>
                </a:cubicBezTo>
                <a:cubicBezTo>
                  <a:pt x="1188" y="2276"/>
                  <a:pt x="1206" y="2268"/>
                  <a:pt x="1206" y="2268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 color            pea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1981080"/>
            <a:ext cx="205740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71800" y="152280"/>
          <a:ext cx="289548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52280"/>
                    <a:ext cx="28954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605560" y="469800"/>
            <a:ext cx="3054240" cy="4116600"/>
          </a:xfrm>
          <a:custGeom>
            <a:avLst/>
            <a:gdLst/>
            <a:ahLst/>
            <a:rect l="l" t="t" r="r" b="b"/>
            <a:pathLst>
              <a:path w="1924" h="2593">
                <a:moveTo>
                  <a:pt x="15" y="172"/>
                </a:moveTo>
                <a:cubicBezTo>
                  <a:pt x="87" y="124"/>
                  <a:pt x="0" y="187"/>
                  <a:pt x="60" y="127"/>
                </a:cubicBezTo>
                <a:cubicBezTo>
                  <a:pt x="78" y="109"/>
                  <a:pt x="104" y="99"/>
                  <a:pt x="123" y="82"/>
                </a:cubicBezTo>
                <a:cubicBezTo>
                  <a:pt x="142" y="65"/>
                  <a:pt x="159" y="46"/>
                  <a:pt x="177" y="28"/>
                </a:cubicBezTo>
                <a:cubicBezTo>
                  <a:pt x="201" y="4"/>
                  <a:pt x="276" y="1"/>
                  <a:pt x="276" y="1"/>
                </a:cubicBezTo>
                <a:cubicBezTo>
                  <a:pt x="306" y="4"/>
                  <a:pt x="337" y="0"/>
                  <a:pt x="366" y="10"/>
                </a:cubicBezTo>
                <a:cubicBezTo>
                  <a:pt x="386" y="17"/>
                  <a:pt x="401" y="112"/>
                  <a:pt x="411" y="127"/>
                </a:cubicBezTo>
                <a:cubicBezTo>
                  <a:pt x="439" y="169"/>
                  <a:pt x="471" y="174"/>
                  <a:pt x="519" y="190"/>
                </a:cubicBezTo>
                <a:cubicBezTo>
                  <a:pt x="555" y="187"/>
                  <a:pt x="592" y="188"/>
                  <a:pt x="627" y="181"/>
                </a:cubicBezTo>
                <a:cubicBezTo>
                  <a:pt x="658" y="175"/>
                  <a:pt x="706" y="93"/>
                  <a:pt x="708" y="91"/>
                </a:cubicBezTo>
                <a:cubicBezTo>
                  <a:pt x="745" y="54"/>
                  <a:pt x="793" y="23"/>
                  <a:pt x="843" y="10"/>
                </a:cubicBezTo>
                <a:cubicBezTo>
                  <a:pt x="957" y="21"/>
                  <a:pt x="971" y="30"/>
                  <a:pt x="1050" y="109"/>
                </a:cubicBezTo>
                <a:cubicBezTo>
                  <a:pt x="1084" y="212"/>
                  <a:pt x="1038" y="66"/>
                  <a:pt x="1068" y="352"/>
                </a:cubicBezTo>
                <a:cubicBezTo>
                  <a:pt x="1071" y="381"/>
                  <a:pt x="1102" y="424"/>
                  <a:pt x="1122" y="442"/>
                </a:cubicBezTo>
                <a:cubicBezTo>
                  <a:pt x="1138" y="456"/>
                  <a:pt x="1176" y="478"/>
                  <a:pt x="1176" y="478"/>
                </a:cubicBezTo>
                <a:cubicBezTo>
                  <a:pt x="1250" y="453"/>
                  <a:pt x="1305" y="400"/>
                  <a:pt x="1365" y="352"/>
                </a:cubicBezTo>
                <a:cubicBezTo>
                  <a:pt x="1373" y="345"/>
                  <a:pt x="1375" y="333"/>
                  <a:pt x="1383" y="325"/>
                </a:cubicBezTo>
                <a:cubicBezTo>
                  <a:pt x="1394" y="314"/>
                  <a:pt x="1406" y="305"/>
                  <a:pt x="1419" y="298"/>
                </a:cubicBezTo>
                <a:cubicBezTo>
                  <a:pt x="1436" y="290"/>
                  <a:pt x="1473" y="280"/>
                  <a:pt x="1473" y="280"/>
                </a:cubicBezTo>
                <a:cubicBezTo>
                  <a:pt x="1564" y="303"/>
                  <a:pt x="1603" y="369"/>
                  <a:pt x="1671" y="424"/>
                </a:cubicBezTo>
                <a:cubicBezTo>
                  <a:pt x="1719" y="519"/>
                  <a:pt x="1729" y="495"/>
                  <a:pt x="1698" y="658"/>
                </a:cubicBezTo>
                <a:cubicBezTo>
                  <a:pt x="1696" y="669"/>
                  <a:pt x="1679" y="669"/>
                  <a:pt x="1671" y="676"/>
                </a:cubicBezTo>
                <a:cubicBezTo>
                  <a:pt x="1579" y="758"/>
                  <a:pt x="1651" y="707"/>
                  <a:pt x="1590" y="748"/>
                </a:cubicBezTo>
                <a:cubicBezTo>
                  <a:pt x="1567" y="793"/>
                  <a:pt x="1537" y="832"/>
                  <a:pt x="1509" y="874"/>
                </a:cubicBezTo>
                <a:cubicBezTo>
                  <a:pt x="1490" y="903"/>
                  <a:pt x="1487" y="960"/>
                  <a:pt x="1482" y="991"/>
                </a:cubicBezTo>
                <a:cubicBezTo>
                  <a:pt x="1486" y="1036"/>
                  <a:pt x="1472" y="1091"/>
                  <a:pt x="1500" y="1126"/>
                </a:cubicBezTo>
                <a:cubicBezTo>
                  <a:pt x="1517" y="1147"/>
                  <a:pt x="1532" y="1142"/>
                  <a:pt x="1554" y="1153"/>
                </a:cubicBezTo>
                <a:cubicBezTo>
                  <a:pt x="1627" y="1190"/>
                  <a:pt x="1699" y="1229"/>
                  <a:pt x="1770" y="1270"/>
                </a:cubicBezTo>
                <a:cubicBezTo>
                  <a:pt x="1789" y="1281"/>
                  <a:pt x="1805" y="1295"/>
                  <a:pt x="1824" y="1306"/>
                </a:cubicBezTo>
                <a:cubicBezTo>
                  <a:pt x="1853" y="1322"/>
                  <a:pt x="1914" y="1351"/>
                  <a:pt x="1914" y="1351"/>
                </a:cubicBezTo>
                <a:cubicBezTo>
                  <a:pt x="1917" y="1360"/>
                  <a:pt x="1923" y="1369"/>
                  <a:pt x="1923" y="1378"/>
                </a:cubicBezTo>
                <a:cubicBezTo>
                  <a:pt x="1923" y="1444"/>
                  <a:pt x="1924" y="1511"/>
                  <a:pt x="1914" y="1576"/>
                </a:cubicBezTo>
                <a:cubicBezTo>
                  <a:pt x="1907" y="1621"/>
                  <a:pt x="1847" y="1636"/>
                  <a:pt x="1815" y="1648"/>
                </a:cubicBezTo>
                <a:cubicBezTo>
                  <a:pt x="1741" y="1676"/>
                  <a:pt x="1822" y="1660"/>
                  <a:pt x="1725" y="1684"/>
                </a:cubicBezTo>
                <a:cubicBezTo>
                  <a:pt x="1683" y="1695"/>
                  <a:pt x="1641" y="1697"/>
                  <a:pt x="1599" y="1711"/>
                </a:cubicBezTo>
                <a:cubicBezTo>
                  <a:pt x="1577" y="1744"/>
                  <a:pt x="1556" y="1761"/>
                  <a:pt x="1518" y="1774"/>
                </a:cubicBezTo>
                <a:cubicBezTo>
                  <a:pt x="1489" y="1803"/>
                  <a:pt x="1462" y="1821"/>
                  <a:pt x="1437" y="1855"/>
                </a:cubicBezTo>
                <a:cubicBezTo>
                  <a:pt x="1410" y="1935"/>
                  <a:pt x="1408" y="1920"/>
                  <a:pt x="1428" y="2035"/>
                </a:cubicBezTo>
                <a:cubicBezTo>
                  <a:pt x="1432" y="2060"/>
                  <a:pt x="1456" y="2079"/>
                  <a:pt x="1473" y="2098"/>
                </a:cubicBezTo>
                <a:cubicBezTo>
                  <a:pt x="1509" y="2138"/>
                  <a:pt x="1557" y="2182"/>
                  <a:pt x="1599" y="2215"/>
                </a:cubicBezTo>
                <a:cubicBezTo>
                  <a:pt x="1632" y="2241"/>
                  <a:pt x="1674" y="2254"/>
                  <a:pt x="1707" y="2278"/>
                </a:cubicBezTo>
                <a:cubicBezTo>
                  <a:pt x="1763" y="2318"/>
                  <a:pt x="1838" y="2428"/>
                  <a:pt x="1860" y="2494"/>
                </a:cubicBezTo>
                <a:cubicBezTo>
                  <a:pt x="1857" y="2515"/>
                  <a:pt x="1842" y="2567"/>
                  <a:pt x="1842" y="2593"/>
                </a:cubicBezTo>
              </a:path>
            </a:pathLst>
          </a:custGeom>
          <a:noFill/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971800" y="152280"/>
          <a:ext cx="2895480" cy="142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152280"/>
                    <a:ext cx="28954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05560" y="469800"/>
            <a:ext cx="3054240" cy="4116600"/>
          </a:xfrm>
          <a:custGeom>
            <a:avLst/>
            <a:gdLst/>
            <a:ahLst/>
            <a:rect l="l" t="t" r="r" b="b"/>
            <a:pathLst>
              <a:path w="1924" h="2593">
                <a:moveTo>
                  <a:pt x="15" y="172"/>
                </a:moveTo>
                <a:cubicBezTo>
                  <a:pt x="87" y="124"/>
                  <a:pt x="0" y="187"/>
                  <a:pt x="60" y="127"/>
                </a:cubicBezTo>
                <a:cubicBezTo>
                  <a:pt x="78" y="109"/>
                  <a:pt x="104" y="99"/>
                  <a:pt x="123" y="82"/>
                </a:cubicBezTo>
                <a:cubicBezTo>
                  <a:pt x="142" y="65"/>
                  <a:pt x="159" y="46"/>
                  <a:pt x="177" y="28"/>
                </a:cubicBezTo>
                <a:cubicBezTo>
                  <a:pt x="201" y="4"/>
                  <a:pt x="276" y="1"/>
                  <a:pt x="276" y="1"/>
                </a:cubicBezTo>
                <a:cubicBezTo>
                  <a:pt x="306" y="4"/>
                  <a:pt x="337" y="0"/>
                  <a:pt x="366" y="10"/>
                </a:cubicBezTo>
                <a:cubicBezTo>
                  <a:pt x="386" y="17"/>
                  <a:pt x="401" y="112"/>
                  <a:pt x="411" y="127"/>
                </a:cubicBezTo>
                <a:cubicBezTo>
                  <a:pt x="439" y="169"/>
                  <a:pt x="471" y="174"/>
                  <a:pt x="519" y="190"/>
                </a:cubicBezTo>
                <a:cubicBezTo>
                  <a:pt x="555" y="187"/>
                  <a:pt x="592" y="188"/>
                  <a:pt x="627" y="181"/>
                </a:cubicBezTo>
                <a:cubicBezTo>
                  <a:pt x="658" y="175"/>
                  <a:pt x="706" y="93"/>
                  <a:pt x="708" y="91"/>
                </a:cubicBezTo>
                <a:cubicBezTo>
                  <a:pt x="745" y="54"/>
                  <a:pt x="793" y="23"/>
                  <a:pt x="843" y="10"/>
                </a:cubicBezTo>
                <a:cubicBezTo>
                  <a:pt x="957" y="21"/>
                  <a:pt x="971" y="30"/>
                  <a:pt x="1050" y="109"/>
                </a:cubicBezTo>
                <a:cubicBezTo>
                  <a:pt x="1084" y="212"/>
                  <a:pt x="1038" y="66"/>
                  <a:pt x="1068" y="352"/>
                </a:cubicBezTo>
                <a:cubicBezTo>
                  <a:pt x="1071" y="381"/>
                  <a:pt x="1102" y="424"/>
                  <a:pt x="1122" y="442"/>
                </a:cubicBezTo>
                <a:cubicBezTo>
                  <a:pt x="1138" y="456"/>
                  <a:pt x="1176" y="478"/>
                  <a:pt x="1176" y="478"/>
                </a:cubicBezTo>
                <a:cubicBezTo>
                  <a:pt x="1250" y="453"/>
                  <a:pt x="1305" y="400"/>
                  <a:pt x="1365" y="352"/>
                </a:cubicBezTo>
                <a:cubicBezTo>
                  <a:pt x="1373" y="345"/>
                  <a:pt x="1375" y="333"/>
                  <a:pt x="1383" y="325"/>
                </a:cubicBezTo>
                <a:cubicBezTo>
                  <a:pt x="1394" y="314"/>
                  <a:pt x="1406" y="305"/>
                  <a:pt x="1419" y="298"/>
                </a:cubicBezTo>
                <a:cubicBezTo>
                  <a:pt x="1436" y="290"/>
                  <a:pt x="1473" y="280"/>
                  <a:pt x="1473" y="280"/>
                </a:cubicBezTo>
                <a:cubicBezTo>
                  <a:pt x="1564" y="303"/>
                  <a:pt x="1603" y="369"/>
                  <a:pt x="1671" y="424"/>
                </a:cubicBezTo>
                <a:cubicBezTo>
                  <a:pt x="1719" y="519"/>
                  <a:pt x="1729" y="495"/>
                  <a:pt x="1698" y="658"/>
                </a:cubicBezTo>
                <a:cubicBezTo>
                  <a:pt x="1696" y="669"/>
                  <a:pt x="1679" y="669"/>
                  <a:pt x="1671" y="676"/>
                </a:cubicBezTo>
                <a:cubicBezTo>
                  <a:pt x="1579" y="758"/>
                  <a:pt x="1651" y="707"/>
                  <a:pt x="1590" y="748"/>
                </a:cubicBezTo>
                <a:cubicBezTo>
                  <a:pt x="1567" y="793"/>
                  <a:pt x="1537" y="832"/>
                  <a:pt x="1509" y="874"/>
                </a:cubicBezTo>
                <a:cubicBezTo>
                  <a:pt x="1490" y="903"/>
                  <a:pt x="1487" y="960"/>
                  <a:pt x="1482" y="991"/>
                </a:cubicBezTo>
                <a:cubicBezTo>
                  <a:pt x="1486" y="1036"/>
                  <a:pt x="1472" y="1091"/>
                  <a:pt x="1500" y="1126"/>
                </a:cubicBezTo>
                <a:cubicBezTo>
                  <a:pt x="1517" y="1147"/>
                  <a:pt x="1532" y="1142"/>
                  <a:pt x="1554" y="1153"/>
                </a:cubicBezTo>
                <a:cubicBezTo>
                  <a:pt x="1627" y="1190"/>
                  <a:pt x="1699" y="1229"/>
                  <a:pt x="1770" y="1270"/>
                </a:cubicBezTo>
                <a:cubicBezTo>
                  <a:pt x="1789" y="1281"/>
                  <a:pt x="1805" y="1295"/>
                  <a:pt x="1824" y="1306"/>
                </a:cubicBezTo>
                <a:cubicBezTo>
                  <a:pt x="1853" y="1322"/>
                  <a:pt x="1914" y="1351"/>
                  <a:pt x="1914" y="1351"/>
                </a:cubicBezTo>
                <a:cubicBezTo>
                  <a:pt x="1917" y="1360"/>
                  <a:pt x="1923" y="1369"/>
                  <a:pt x="1923" y="1378"/>
                </a:cubicBezTo>
                <a:cubicBezTo>
                  <a:pt x="1923" y="1444"/>
                  <a:pt x="1924" y="1511"/>
                  <a:pt x="1914" y="1576"/>
                </a:cubicBezTo>
                <a:cubicBezTo>
                  <a:pt x="1907" y="1621"/>
                  <a:pt x="1847" y="1636"/>
                  <a:pt x="1815" y="1648"/>
                </a:cubicBezTo>
                <a:cubicBezTo>
                  <a:pt x="1741" y="1676"/>
                  <a:pt x="1822" y="1660"/>
                  <a:pt x="1725" y="1684"/>
                </a:cubicBezTo>
                <a:cubicBezTo>
                  <a:pt x="1683" y="1695"/>
                  <a:pt x="1641" y="1697"/>
                  <a:pt x="1599" y="1711"/>
                </a:cubicBezTo>
                <a:cubicBezTo>
                  <a:pt x="1577" y="1744"/>
                  <a:pt x="1556" y="1761"/>
                  <a:pt x="1518" y="1774"/>
                </a:cubicBezTo>
                <a:cubicBezTo>
                  <a:pt x="1489" y="1803"/>
                  <a:pt x="1462" y="1821"/>
                  <a:pt x="1437" y="1855"/>
                </a:cubicBezTo>
                <a:cubicBezTo>
                  <a:pt x="1410" y="1935"/>
                  <a:pt x="1408" y="1920"/>
                  <a:pt x="1428" y="2035"/>
                </a:cubicBezTo>
                <a:cubicBezTo>
                  <a:pt x="1432" y="2060"/>
                  <a:pt x="1456" y="2079"/>
                  <a:pt x="1473" y="2098"/>
                </a:cubicBezTo>
                <a:cubicBezTo>
                  <a:pt x="1509" y="2138"/>
                  <a:pt x="1557" y="2182"/>
                  <a:pt x="1599" y="2215"/>
                </a:cubicBezTo>
                <a:cubicBezTo>
                  <a:pt x="1632" y="2241"/>
                  <a:pt x="1674" y="2254"/>
                  <a:pt x="1707" y="2278"/>
                </a:cubicBezTo>
                <a:cubicBezTo>
                  <a:pt x="1763" y="2318"/>
                  <a:pt x="1838" y="2428"/>
                  <a:pt x="1860" y="2494"/>
                </a:cubicBezTo>
                <a:cubicBezTo>
                  <a:pt x="1857" y="2515"/>
                  <a:pt x="1842" y="2567"/>
                  <a:pt x="1842" y="2593"/>
                </a:cubicBezTo>
              </a:path>
            </a:pathLst>
          </a:custGeom>
          <a:noFill/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971800" y="152280"/>
          <a:ext cx="289548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52280"/>
                    <a:ext cx="28954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605560" y="469800"/>
            <a:ext cx="3054240" cy="4116600"/>
          </a:xfrm>
          <a:custGeom>
            <a:avLst/>
            <a:gdLst/>
            <a:ahLst/>
            <a:rect l="l" t="t" r="r" b="b"/>
            <a:pathLst>
              <a:path w="1924" h="2593">
                <a:moveTo>
                  <a:pt x="15" y="172"/>
                </a:moveTo>
                <a:cubicBezTo>
                  <a:pt x="87" y="124"/>
                  <a:pt x="0" y="187"/>
                  <a:pt x="60" y="127"/>
                </a:cubicBezTo>
                <a:cubicBezTo>
                  <a:pt x="78" y="109"/>
                  <a:pt x="104" y="99"/>
                  <a:pt x="123" y="82"/>
                </a:cubicBezTo>
                <a:cubicBezTo>
                  <a:pt x="142" y="65"/>
                  <a:pt x="159" y="46"/>
                  <a:pt x="177" y="28"/>
                </a:cubicBezTo>
                <a:cubicBezTo>
                  <a:pt x="201" y="4"/>
                  <a:pt x="276" y="1"/>
                  <a:pt x="276" y="1"/>
                </a:cubicBezTo>
                <a:cubicBezTo>
                  <a:pt x="306" y="4"/>
                  <a:pt x="337" y="0"/>
                  <a:pt x="366" y="10"/>
                </a:cubicBezTo>
                <a:cubicBezTo>
                  <a:pt x="386" y="17"/>
                  <a:pt x="401" y="112"/>
                  <a:pt x="411" y="127"/>
                </a:cubicBezTo>
                <a:cubicBezTo>
                  <a:pt x="439" y="169"/>
                  <a:pt x="471" y="174"/>
                  <a:pt x="519" y="190"/>
                </a:cubicBezTo>
                <a:cubicBezTo>
                  <a:pt x="555" y="187"/>
                  <a:pt x="592" y="188"/>
                  <a:pt x="627" y="181"/>
                </a:cubicBezTo>
                <a:cubicBezTo>
                  <a:pt x="658" y="175"/>
                  <a:pt x="706" y="93"/>
                  <a:pt x="708" y="91"/>
                </a:cubicBezTo>
                <a:cubicBezTo>
                  <a:pt x="745" y="54"/>
                  <a:pt x="793" y="23"/>
                  <a:pt x="843" y="10"/>
                </a:cubicBezTo>
                <a:cubicBezTo>
                  <a:pt x="957" y="21"/>
                  <a:pt x="971" y="30"/>
                  <a:pt x="1050" y="109"/>
                </a:cubicBezTo>
                <a:cubicBezTo>
                  <a:pt x="1084" y="212"/>
                  <a:pt x="1038" y="66"/>
                  <a:pt x="1068" y="352"/>
                </a:cubicBezTo>
                <a:cubicBezTo>
                  <a:pt x="1071" y="381"/>
                  <a:pt x="1102" y="424"/>
                  <a:pt x="1122" y="442"/>
                </a:cubicBezTo>
                <a:cubicBezTo>
                  <a:pt x="1138" y="456"/>
                  <a:pt x="1176" y="478"/>
                  <a:pt x="1176" y="478"/>
                </a:cubicBezTo>
                <a:cubicBezTo>
                  <a:pt x="1250" y="453"/>
                  <a:pt x="1305" y="400"/>
                  <a:pt x="1365" y="352"/>
                </a:cubicBezTo>
                <a:cubicBezTo>
                  <a:pt x="1373" y="345"/>
                  <a:pt x="1375" y="333"/>
                  <a:pt x="1383" y="325"/>
                </a:cubicBezTo>
                <a:cubicBezTo>
                  <a:pt x="1394" y="314"/>
                  <a:pt x="1406" y="305"/>
                  <a:pt x="1419" y="298"/>
                </a:cubicBezTo>
                <a:cubicBezTo>
                  <a:pt x="1436" y="290"/>
                  <a:pt x="1473" y="280"/>
                  <a:pt x="1473" y="280"/>
                </a:cubicBezTo>
                <a:cubicBezTo>
                  <a:pt x="1564" y="303"/>
                  <a:pt x="1603" y="369"/>
                  <a:pt x="1671" y="424"/>
                </a:cubicBezTo>
                <a:cubicBezTo>
                  <a:pt x="1719" y="519"/>
                  <a:pt x="1729" y="495"/>
                  <a:pt x="1698" y="658"/>
                </a:cubicBezTo>
                <a:cubicBezTo>
                  <a:pt x="1696" y="669"/>
                  <a:pt x="1679" y="669"/>
                  <a:pt x="1671" y="676"/>
                </a:cubicBezTo>
                <a:cubicBezTo>
                  <a:pt x="1579" y="758"/>
                  <a:pt x="1651" y="707"/>
                  <a:pt x="1590" y="748"/>
                </a:cubicBezTo>
                <a:cubicBezTo>
                  <a:pt x="1567" y="793"/>
                  <a:pt x="1537" y="832"/>
                  <a:pt x="1509" y="874"/>
                </a:cubicBezTo>
                <a:cubicBezTo>
                  <a:pt x="1490" y="903"/>
                  <a:pt x="1487" y="960"/>
                  <a:pt x="1482" y="991"/>
                </a:cubicBezTo>
                <a:cubicBezTo>
                  <a:pt x="1486" y="1036"/>
                  <a:pt x="1472" y="1091"/>
                  <a:pt x="1500" y="1126"/>
                </a:cubicBezTo>
                <a:cubicBezTo>
                  <a:pt x="1517" y="1147"/>
                  <a:pt x="1532" y="1142"/>
                  <a:pt x="1554" y="1153"/>
                </a:cubicBezTo>
                <a:cubicBezTo>
                  <a:pt x="1627" y="1190"/>
                  <a:pt x="1699" y="1229"/>
                  <a:pt x="1770" y="1270"/>
                </a:cubicBezTo>
                <a:cubicBezTo>
                  <a:pt x="1789" y="1281"/>
                  <a:pt x="1805" y="1295"/>
                  <a:pt x="1824" y="1306"/>
                </a:cubicBezTo>
                <a:cubicBezTo>
                  <a:pt x="1853" y="1322"/>
                  <a:pt x="1914" y="1351"/>
                  <a:pt x="1914" y="1351"/>
                </a:cubicBezTo>
                <a:cubicBezTo>
                  <a:pt x="1917" y="1360"/>
                  <a:pt x="1923" y="1369"/>
                  <a:pt x="1923" y="1378"/>
                </a:cubicBezTo>
                <a:cubicBezTo>
                  <a:pt x="1923" y="1444"/>
                  <a:pt x="1924" y="1511"/>
                  <a:pt x="1914" y="1576"/>
                </a:cubicBezTo>
                <a:cubicBezTo>
                  <a:pt x="1907" y="1621"/>
                  <a:pt x="1847" y="1636"/>
                  <a:pt x="1815" y="1648"/>
                </a:cubicBezTo>
                <a:cubicBezTo>
                  <a:pt x="1741" y="1676"/>
                  <a:pt x="1822" y="1660"/>
                  <a:pt x="1725" y="1684"/>
                </a:cubicBezTo>
                <a:cubicBezTo>
                  <a:pt x="1683" y="1695"/>
                  <a:pt x="1641" y="1697"/>
                  <a:pt x="1599" y="1711"/>
                </a:cubicBezTo>
                <a:cubicBezTo>
                  <a:pt x="1577" y="1744"/>
                  <a:pt x="1556" y="1761"/>
                  <a:pt x="1518" y="1774"/>
                </a:cubicBezTo>
                <a:cubicBezTo>
                  <a:pt x="1489" y="1803"/>
                  <a:pt x="1462" y="1821"/>
                  <a:pt x="1437" y="1855"/>
                </a:cubicBezTo>
                <a:cubicBezTo>
                  <a:pt x="1410" y="1935"/>
                  <a:pt x="1408" y="1920"/>
                  <a:pt x="1428" y="2035"/>
                </a:cubicBezTo>
                <a:cubicBezTo>
                  <a:pt x="1432" y="2060"/>
                  <a:pt x="1456" y="2079"/>
                  <a:pt x="1473" y="2098"/>
                </a:cubicBezTo>
                <a:cubicBezTo>
                  <a:pt x="1509" y="2138"/>
                  <a:pt x="1557" y="2182"/>
                  <a:pt x="1599" y="2215"/>
                </a:cubicBezTo>
                <a:cubicBezTo>
                  <a:pt x="1632" y="2241"/>
                  <a:pt x="1674" y="2254"/>
                  <a:pt x="1707" y="2278"/>
                </a:cubicBezTo>
                <a:cubicBezTo>
                  <a:pt x="1763" y="2318"/>
                  <a:pt x="1838" y="2428"/>
                  <a:pt x="1860" y="2494"/>
                </a:cubicBezTo>
                <a:cubicBezTo>
                  <a:pt x="1857" y="2515"/>
                  <a:pt x="1842" y="2567"/>
                  <a:pt x="1842" y="2593"/>
                </a:cubicBezTo>
              </a:path>
            </a:pathLst>
          </a:custGeom>
          <a:noFill/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971800" y="152280"/>
          <a:ext cx="289548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52280"/>
                    <a:ext cx="28954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605560" y="469800"/>
            <a:ext cx="3054240" cy="4116600"/>
          </a:xfrm>
          <a:custGeom>
            <a:avLst/>
            <a:gdLst/>
            <a:ahLst/>
            <a:rect l="l" t="t" r="r" b="b"/>
            <a:pathLst>
              <a:path w="1924" h="2593">
                <a:moveTo>
                  <a:pt x="15" y="172"/>
                </a:moveTo>
                <a:cubicBezTo>
                  <a:pt x="87" y="124"/>
                  <a:pt x="0" y="187"/>
                  <a:pt x="60" y="127"/>
                </a:cubicBezTo>
                <a:cubicBezTo>
                  <a:pt x="78" y="109"/>
                  <a:pt x="104" y="99"/>
                  <a:pt x="123" y="82"/>
                </a:cubicBezTo>
                <a:cubicBezTo>
                  <a:pt x="142" y="65"/>
                  <a:pt x="159" y="46"/>
                  <a:pt x="177" y="28"/>
                </a:cubicBezTo>
                <a:cubicBezTo>
                  <a:pt x="201" y="4"/>
                  <a:pt x="276" y="1"/>
                  <a:pt x="276" y="1"/>
                </a:cubicBezTo>
                <a:cubicBezTo>
                  <a:pt x="306" y="4"/>
                  <a:pt x="337" y="0"/>
                  <a:pt x="366" y="10"/>
                </a:cubicBezTo>
                <a:cubicBezTo>
                  <a:pt x="386" y="17"/>
                  <a:pt x="401" y="112"/>
                  <a:pt x="411" y="127"/>
                </a:cubicBezTo>
                <a:cubicBezTo>
                  <a:pt x="439" y="169"/>
                  <a:pt x="471" y="174"/>
                  <a:pt x="519" y="190"/>
                </a:cubicBezTo>
                <a:cubicBezTo>
                  <a:pt x="555" y="187"/>
                  <a:pt x="592" y="188"/>
                  <a:pt x="627" y="181"/>
                </a:cubicBezTo>
                <a:cubicBezTo>
                  <a:pt x="658" y="175"/>
                  <a:pt x="706" y="93"/>
                  <a:pt x="708" y="91"/>
                </a:cubicBezTo>
                <a:cubicBezTo>
                  <a:pt x="745" y="54"/>
                  <a:pt x="793" y="23"/>
                  <a:pt x="843" y="10"/>
                </a:cubicBezTo>
                <a:cubicBezTo>
                  <a:pt x="957" y="21"/>
                  <a:pt x="971" y="30"/>
                  <a:pt x="1050" y="109"/>
                </a:cubicBezTo>
                <a:cubicBezTo>
                  <a:pt x="1084" y="212"/>
                  <a:pt x="1038" y="66"/>
                  <a:pt x="1068" y="352"/>
                </a:cubicBezTo>
                <a:cubicBezTo>
                  <a:pt x="1071" y="381"/>
                  <a:pt x="1102" y="424"/>
                  <a:pt x="1122" y="442"/>
                </a:cubicBezTo>
                <a:cubicBezTo>
                  <a:pt x="1138" y="456"/>
                  <a:pt x="1176" y="478"/>
                  <a:pt x="1176" y="478"/>
                </a:cubicBezTo>
                <a:cubicBezTo>
                  <a:pt x="1250" y="453"/>
                  <a:pt x="1305" y="400"/>
                  <a:pt x="1365" y="352"/>
                </a:cubicBezTo>
                <a:cubicBezTo>
                  <a:pt x="1373" y="345"/>
                  <a:pt x="1375" y="333"/>
                  <a:pt x="1383" y="325"/>
                </a:cubicBezTo>
                <a:cubicBezTo>
                  <a:pt x="1394" y="314"/>
                  <a:pt x="1406" y="305"/>
                  <a:pt x="1419" y="298"/>
                </a:cubicBezTo>
                <a:cubicBezTo>
                  <a:pt x="1436" y="290"/>
                  <a:pt x="1473" y="280"/>
                  <a:pt x="1473" y="280"/>
                </a:cubicBezTo>
                <a:cubicBezTo>
                  <a:pt x="1564" y="303"/>
                  <a:pt x="1603" y="369"/>
                  <a:pt x="1671" y="424"/>
                </a:cubicBezTo>
                <a:cubicBezTo>
                  <a:pt x="1719" y="519"/>
                  <a:pt x="1729" y="495"/>
                  <a:pt x="1698" y="658"/>
                </a:cubicBezTo>
                <a:cubicBezTo>
                  <a:pt x="1696" y="669"/>
                  <a:pt x="1679" y="669"/>
                  <a:pt x="1671" y="676"/>
                </a:cubicBezTo>
                <a:cubicBezTo>
                  <a:pt x="1579" y="758"/>
                  <a:pt x="1651" y="707"/>
                  <a:pt x="1590" y="748"/>
                </a:cubicBezTo>
                <a:cubicBezTo>
                  <a:pt x="1567" y="793"/>
                  <a:pt x="1537" y="832"/>
                  <a:pt x="1509" y="874"/>
                </a:cubicBezTo>
                <a:cubicBezTo>
                  <a:pt x="1490" y="903"/>
                  <a:pt x="1487" y="960"/>
                  <a:pt x="1482" y="991"/>
                </a:cubicBezTo>
                <a:cubicBezTo>
                  <a:pt x="1486" y="1036"/>
                  <a:pt x="1472" y="1091"/>
                  <a:pt x="1500" y="1126"/>
                </a:cubicBezTo>
                <a:cubicBezTo>
                  <a:pt x="1517" y="1147"/>
                  <a:pt x="1532" y="1142"/>
                  <a:pt x="1554" y="1153"/>
                </a:cubicBezTo>
                <a:cubicBezTo>
                  <a:pt x="1627" y="1190"/>
                  <a:pt x="1699" y="1229"/>
                  <a:pt x="1770" y="1270"/>
                </a:cubicBezTo>
                <a:cubicBezTo>
                  <a:pt x="1789" y="1281"/>
                  <a:pt x="1805" y="1295"/>
                  <a:pt x="1824" y="1306"/>
                </a:cubicBezTo>
                <a:cubicBezTo>
                  <a:pt x="1853" y="1322"/>
                  <a:pt x="1914" y="1351"/>
                  <a:pt x="1914" y="1351"/>
                </a:cubicBezTo>
                <a:cubicBezTo>
                  <a:pt x="1917" y="1360"/>
                  <a:pt x="1923" y="1369"/>
                  <a:pt x="1923" y="1378"/>
                </a:cubicBezTo>
                <a:cubicBezTo>
                  <a:pt x="1923" y="1444"/>
                  <a:pt x="1924" y="1511"/>
                  <a:pt x="1914" y="1576"/>
                </a:cubicBezTo>
                <a:cubicBezTo>
                  <a:pt x="1907" y="1621"/>
                  <a:pt x="1847" y="1636"/>
                  <a:pt x="1815" y="1648"/>
                </a:cubicBezTo>
                <a:cubicBezTo>
                  <a:pt x="1741" y="1676"/>
                  <a:pt x="1822" y="1660"/>
                  <a:pt x="1725" y="1684"/>
                </a:cubicBezTo>
                <a:cubicBezTo>
                  <a:pt x="1683" y="1695"/>
                  <a:pt x="1641" y="1697"/>
                  <a:pt x="1599" y="1711"/>
                </a:cubicBezTo>
                <a:cubicBezTo>
                  <a:pt x="1577" y="1744"/>
                  <a:pt x="1556" y="1761"/>
                  <a:pt x="1518" y="1774"/>
                </a:cubicBezTo>
                <a:cubicBezTo>
                  <a:pt x="1489" y="1803"/>
                  <a:pt x="1462" y="1821"/>
                  <a:pt x="1437" y="1855"/>
                </a:cubicBezTo>
                <a:cubicBezTo>
                  <a:pt x="1410" y="1935"/>
                  <a:pt x="1408" y="1920"/>
                  <a:pt x="1428" y="2035"/>
                </a:cubicBezTo>
                <a:cubicBezTo>
                  <a:pt x="1432" y="2060"/>
                  <a:pt x="1456" y="2079"/>
                  <a:pt x="1473" y="2098"/>
                </a:cubicBezTo>
                <a:cubicBezTo>
                  <a:pt x="1509" y="2138"/>
                  <a:pt x="1557" y="2182"/>
                  <a:pt x="1599" y="2215"/>
                </a:cubicBezTo>
                <a:cubicBezTo>
                  <a:pt x="1632" y="2241"/>
                  <a:pt x="1674" y="2254"/>
                  <a:pt x="1707" y="2278"/>
                </a:cubicBezTo>
                <a:cubicBezTo>
                  <a:pt x="1763" y="2318"/>
                  <a:pt x="1838" y="2428"/>
                  <a:pt x="1860" y="2494"/>
                </a:cubicBezTo>
                <a:cubicBezTo>
                  <a:pt x="1857" y="2515"/>
                  <a:pt x="1842" y="2567"/>
                  <a:pt x="1842" y="2593"/>
                </a:cubicBezTo>
              </a:path>
            </a:pathLst>
          </a:custGeom>
          <a:noFill/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553080" y="1981080"/>
            <a:ext cx="19814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1148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color               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0"/>
          <a:ext cx="312408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31240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886120" y="512640"/>
            <a:ext cx="2442960" cy="2519640"/>
          </a:xfrm>
          <a:custGeom>
            <a:avLst/>
            <a:gdLst/>
            <a:ahLst/>
            <a:rect l="l" t="t" r="r" b="b"/>
            <a:pathLst>
              <a:path w="1539" h="1587">
                <a:moveTo>
                  <a:pt x="0" y="46"/>
                </a:moveTo>
                <a:cubicBezTo>
                  <a:pt x="54" y="28"/>
                  <a:pt x="107" y="12"/>
                  <a:pt x="162" y="1"/>
                </a:cubicBezTo>
                <a:cubicBezTo>
                  <a:pt x="201" y="4"/>
                  <a:pt x="241" y="0"/>
                  <a:pt x="279" y="10"/>
                </a:cubicBezTo>
                <a:cubicBezTo>
                  <a:pt x="311" y="18"/>
                  <a:pt x="336" y="48"/>
                  <a:pt x="369" y="55"/>
                </a:cubicBezTo>
                <a:cubicBezTo>
                  <a:pt x="384" y="58"/>
                  <a:pt x="399" y="61"/>
                  <a:pt x="414" y="64"/>
                </a:cubicBezTo>
                <a:cubicBezTo>
                  <a:pt x="436" y="81"/>
                  <a:pt x="466" y="98"/>
                  <a:pt x="477" y="127"/>
                </a:cubicBezTo>
                <a:cubicBezTo>
                  <a:pt x="487" y="153"/>
                  <a:pt x="487" y="181"/>
                  <a:pt x="495" y="208"/>
                </a:cubicBezTo>
                <a:cubicBezTo>
                  <a:pt x="505" y="242"/>
                  <a:pt x="520" y="274"/>
                  <a:pt x="531" y="307"/>
                </a:cubicBezTo>
                <a:cubicBezTo>
                  <a:pt x="524" y="427"/>
                  <a:pt x="507" y="539"/>
                  <a:pt x="495" y="658"/>
                </a:cubicBezTo>
                <a:cubicBezTo>
                  <a:pt x="517" y="770"/>
                  <a:pt x="586" y="758"/>
                  <a:pt x="675" y="802"/>
                </a:cubicBezTo>
                <a:cubicBezTo>
                  <a:pt x="732" y="795"/>
                  <a:pt x="782" y="784"/>
                  <a:pt x="837" y="766"/>
                </a:cubicBezTo>
                <a:cubicBezTo>
                  <a:pt x="935" y="777"/>
                  <a:pt x="1005" y="779"/>
                  <a:pt x="1062" y="865"/>
                </a:cubicBezTo>
                <a:cubicBezTo>
                  <a:pt x="1076" y="919"/>
                  <a:pt x="1067" y="889"/>
                  <a:pt x="1089" y="955"/>
                </a:cubicBezTo>
                <a:cubicBezTo>
                  <a:pt x="1092" y="964"/>
                  <a:pt x="1095" y="973"/>
                  <a:pt x="1098" y="982"/>
                </a:cubicBezTo>
                <a:cubicBezTo>
                  <a:pt x="1101" y="991"/>
                  <a:pt x="1107" y="1009"/>
                  <a:pt x="1107" y="1009"/>
                </a:cubicBezTo>
                <a:cubicBezTo>
                  <a:pt x="1099" y="1119"/>
                  <a:pt x="1081" y="1196"/>
                  <a:pt x="1107" y="1306"/>
                </a:cubicBezTo>
                <a:cubicBezTo>
                  <a:pt x="1112" y="1326"/>
                  <a:pt x="1127" y="1341"/>
                  <a:pt x="1134" y="1360"/>
                </a:cubicBezTo>
                <a:cubicBezTo>
                  <a:pt x="1172" y="1459"/>
                  <a:pt x="1144" y="1433"/>
                  <a:pt x="1197" y="1468"/>
                </a:cubicBezTo>
                <a:cubicBezTo>
                  <a:pt x="1245" y="1540"/>
                  <a:pt x="1182" y="1453"/>
                  <a:pt x="1242" y="1513"/>
                </a:cubicBezTo>
                <a:cubicBezTo>
                  <a:pt x="1250" y="1521"/>
                  <a:pt x="1252" y="1532"/>
                  <a:pt x="1260" y="1540"/>
                </a:cubicBezTo>
                <a:cubicBezTo>
                  <a:pt x="1286" y="1566"/>
                  <a:pt x="1325" y="1577"/>
                  <a:pt x="1359" y="1585"/>
                </a:cubicBezTo>
                <a:cubicBezTo>
                  <a:pt x="1374" y="1582"/>
                  <a:pt x="1393" y="1587"/>
                  <a:pt x="1404" y="1576"/>
                </a:cubicBezTo>
                <a:cubicBezTo>
                  <a:pt x="1409" y="1571"/>
                  <a:pt x="1446" y="1460"/>
                  <a:pt x="1449" y="1450"/>
                </a:cubicBezTo>
                <a:cubicBezTo>
                  <a:pt x="1454" y="1432"/>
                  <a:pt x="1467" y="1396"/>
                  <a:pt x="1467" y="1396"/>
                </a:cubicBezTo>
                <a:cubicBezTo>
                  <a:pt x="1464" y="1355"/>
                  <a:pt x="1463" y="1271"/>
                  <a:pt x="1440" y="1225"/>
                </a:cubicBezTo>
                <a:cubicBezTo>
                  <a:pt x="1398" y="1141"/>
                  <a:pt x="1318" y="1092"/>
                  <a:pt x="1287" y="1000"/>
                </a:cubicBezTo>
                <a:cubicBezTo>
                  <a:pt x="1290" y="904"/>
                  <a:pt x="1291" y="808"/>
                  <a:pt x="1296" y="712"/>
                </a:cubicBezTo>
                <a:cubicBezTo>
                  <a:pt x="1297" y="698"/>
                  <a:pt x="1323" y="622"/>
                  <a:pt x="1332" y="613"/>
                </a:cubicBezTo>
                <a:cubicBezTo>
                  <a:pt x="1345" y="600"/>
                  <a:pt x="1421" y="545"/>
                  <a:pt x="1449" y="532"/>
                </a:cubicBezTo>
                <a:cubicBezTo>
                  <a:pt x="1478" y="519"/>
                  <a:pt x="1539" y="505"/>
                  <a:pt x="1539" y="50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228600" y="0"/>
          <a:ext cx="3124080" cy="139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0"/>
                    <a:ext cx="31240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886120" y="512640"/>
            <a:ext cx="2442960" cy="2519640"/>
          </a:xfrm>
          <a:custGeom>
            <a:avLst/>
            <a:gdLst/>
            <a:ahLst/>
            <a:rect l="l" t="t" r="r" b="b"/>
            <a:pathLst>
              <a:path w="1539" h="1587">
                <a:moveTo>
                  <a:pt x="0" y="46"/>
                </a:moveTo>
                <a:cubicBezTo>
                  <a:pt x="54" y="28"/>
                  <a:pt x="107" y="12"/>
                  <a:pt x="162" y="1"/>
                </a:cubicBezTo>
                <a:cubicBezTo>
                  <a:pt x="201" y="4"/>
                  <a:pt x="241" y="0"/>
                  <a:pt x="279" y="10"/>
                </a:cubicBezTo>
                <a:cubicBezTo>
                  <a:pt x="311" y="18"/>
                  <a:pt x="336" y="48"/>
                  <a:pt x="369" y="55"/>
                </a:cubicBezTo>
                <a:cubicBezTo>
                  <a:pt x="384" y="58"/>
                  <a:pt x="399" y="61"/>
                  <a:pt x="414" y="64"/>
                </a:cubicBezTo>
                <a:cubicBezTo>
                  <a:pt x="436" y="81"/>
                  <a:pt x="466" y="98"/>
                  <a:pt x="477" y="127"/>
                </a:cubicBezTo>
                <a:cubicBezTo>
                  <a:pt x="487" y="153"/>
                  <a:pt x="487" y="181"/>
                  <a:pt x="495" y="208"/>
                </a:cubicBezTo>
                <a:cubicBezTo>
                  <a:pt x="505" y="242"/>
                  <a:pt x="520" y="274"/>
                  <a:pt x="531" y="307"/>
                </a:cubicBezTo>
                <a:cubicBezTo>
                  <a:pt x="524" y="427"/>
                  <a:pt x="507" y="539"/>
                  <a:pt x="495" y="658"/>
                </a:cubicBezTo>
                <a:cubicBezTo>
                  <a:pt x="517" y="770"/>
                  <a:pt x="586" y="758"/>
                  <a:pt x="675" y="802"/>
                </a:cubicBezTo>
                <a:cubicBezTo>
                  <a:pt x="732" y="795"/>
                  <a:pt x="782" y="784"/>
                  <a:pt x="837" y="766"/>
                </a:cubicBezTo>
                <a:cubicBezTo>
                  <a:pt x="935" y="777"/>
                  <a:pt x="1005" y="779"/>
                  <a:pt x="1062" y="865"/>
                </a:cubicBezTo>
                <a:cubicBezTo>
                  <a:pt x="1076" y="919"/>
                  <a:pt x="1067" y="889"/>
                  <a:pt x="1089" y="955"/>
                </a:cubicBezTo>
                <a:cubicBezTo>
                  <a:pt x="1092" y="964"/>
                  <a:pt x="1095" y="973"/>
                  <a:pt x="1098" y="982"/>
                </a:cubicBezTo>
                <a:cubicBezTo>
                  <a:pt x="1101" y="991"/>
                  <a:pt x="1107" y="1009"/>
                  <a:pt x="1107" y="1009"/>
                </a:cubicBezTo>
                <a:cubicBezTo>
                  <a:pt x="1099" y="1119"/>
                  <a:pt x="1081" y="1196"/>
                  <a:pt x="1107" y="1306"/>
                </a:cubicBezTo>
                <a:cubicBezTo>
                  <a:pt x="1112" y="1326"/>
                  <a:pt x="1127" y="1341"/>
                  <a:pt x="1134" y="1360"/>
                </a:cubicBezTo>
                <a:cubicBezTo>
                  <a:pt x="1172" y="1459"/>
                  <a:pt x="1144" y="1433"/>
                  <a:pt x="1197" y="1468"/>
                </a:cubicBezTo>
                <a:cubicBezTo>
                  <a:pt x="1245" y="1540"/>
                  <a:pt x="1182" y="1453"/>
                  <a:pt x="1242" y="1513"/>
                </a:cubicBezTo>
                <a:cubicBezTo>
                  <a:pt x="1250" y="1521"/>
                  <a:pt x="1252" y="1532"/>
                  <a:pt x="1260" y="1540"/>
                </a:cubicBezTo>
                <a:cubicBezTo>
                  <a:pt x="1286" y="1566"/>
                  <a:pt x="1325" y="1577"/>
                  <a:pt x="1359" y="1585"/>
                </a:cubicBezTo>
                <a:cubicBezTo>
                  <a:pt x="1374" y="1582"/>
                  <a:pt x="1393" y="1587"/>
                  <a:pt x="1404" y="1576"/>
                </a:cubicBezTo>
                <a:cubicBezTo>
                  <a:pt x="1409" y="1571"/>
                  <a:pt x="1446" y="1460"/>
                  <a:pt x="1449" y="1450"/>
                </a:cubicBezTo>
                <a:cubicBezTo>
                  <a:pt x="1454" y="1432"/>
                  <a:pt x="1467" y="1396"/>
                  <a:pt x="1467" y="1396"/>
                </a:cubicBezTo>
                <a:cubicBezTo>
                  <a:pt x="1464" y="1355"/>
                  <a:pt x="1463" y="1271"/>
                  <a:pt x="1440" y="1225"/>
                </a:cubicBezTo>
                <a:cubicBezTo>
                  <a:pt x="1398" y="1141"/>
                  <a:pt x="1318" y="1092"/>
                  <a:pt x="1287" y="1000"/>
                </a:cubicBezTo>
                <a:cubicBezTo>
                  <a:pt x="1290" y="904"/>
                  <a:pt x="1291" y="808"/>
                  <a:pt x="1296" y="712"/>
                </a:cubicBezTo>
                <a:cubicBezTo>
                  <a:pt x="1297" y="698"/>
                  <a:pt x="1323" y="622"/>
                  <a:pt x="1332" y="613"/>
                </a:cubicBezTo>
                <a:cubicBezTo>
                  <a:pt x="1345" y="600"/>
                  <a:pt x="1421" y="545"/>
                  <a:pt x="1449" y="532"/>
                </a:cubicBezTo>
                <a:cubicBezTo>
                  <a:pt x="1478" y="519"/>
                  <a:pt x="1539" y="505"/>
                  <a:pt x="1539" y="50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1981080"/>
            <a:ext cx="1981440" cy="19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 color            yel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24080" y="0"/>
          <a:ext cx="289584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0"/>
                    <a:ext cx="28958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85960" y="299880"/>
            <a:ext cx="2300040" cy="1171800"/>
          </a:xfrm>
          <a:custGeom>
            <a:avLst/>
            <a:gdLst/>
            <a:ahLst/>
            <a:rect l="l" t="t" r="r" b="b"/>
            <a:pathLst>
              <a:path w="1449" h="738">
                <a:moveTo>
                  <a:pt x="1449" y="117"/>
                </a:moveTo>
                <a:cubicBezTo>
                  <a:pt x="1370" y="91"/>
                  <a:pt x="1412" y="107"/>
                  <a:pt x="1323" y="63"/>
                </a:cubicBezTo>
                <a:cubicBezTo>
                  <a:pt x="1308" y="55"/>
                  <a:pt x="1301" y="36"/>
                  <a:pt x="1287" y="27"/>
                </a:cubicBezTo>
                <a:cubicBezTo>
                  <a:pt x="1276" y="20"/>
                  <a:pt x="1232" y="6"/>
                  <a:pt x="1215" y="0"/>
                </a:cubicBezTo>
                <a:cubicBezTo>
                  <a:pt x="1112" y="10"/>
                  <a:pt x="1078" y="5"/>
                  <a:pt x="1044" y="108"/>
                </a:cubicBezTo>
                <a:cubicBezTo>
                  <a:pt x="1050" y="153"/>
                  <a:pt x="1057" y="192"/>
                  <a:pt x="1071" y="234"/>
                </a:cubicBezTo>
                <a:cubicBezTo>
                  <a:pt x="1058" y="312"/>
                  <a:pt x="1025" y="353"/>
                  <a:pt x="945" y="369"/>
                </a:cubicBezTo>
                <a:cubicBezTo>
                  <a:pt x="918" y="366"/>
                  <a:pt x="890" y="367"/>
                  <a:pt x="864" y="360"/>
                </a:cubicBezTo>
                <a:cubicBezTo>
                  <a:pt x="824" y="350"/>
                  <a:pt x="803" y="303"/>
                  <a:pt x="765" y="288"/>
                </a:cubicBezTo>
                <a:cubicBezTo>
                  <a:pt x="701" y="262"/>
                  <a:pt x="643" y="220"/>
                  <a:pt x="576" y="207"/>
                </a:cubicBezTo>
                <a:cubicBezTo>
                  <a:pt x="546" y="210"/>
                  <a:pt x="515" y="209"/>
                  <a:pt x="486" y="216"/>
                </a:cubicBezTo>
                <a:cubicBezTo>
                  <a:pt x="453" y="224"/>
                  <a:pt x="433" y="265"/>
                  <a:pt x="414" y="288"/>
                </a:cubicBezTo>
                <a:cubicBezTo>
                  <a:pt x="384" y="324"/>
                  <a:pt x="340" y="352"/>
                  <a:pt x="297" y="369"/>
                </a:cubicBezTo>
                <a:cubicBezTo>
                  <a:pt x="262" y="383"/>
                  <a:pt x="225" y="393"/>
                  <a:pt x="189" y="405"/>
                </a:cubicBezTo>
                <a:cubicBezTo>
                  <a:pt x="171" y="411"/>
                  <a:pt x="135" y="423"/>
                  <a:pt x="135" y="423"/>
                </a:cubicBezTo>
                <a:cubicBezTo>
                  <a:pt x="109" y="463"/>
                  <a:pt x="80" y="500"/>
                  <a:pt x="54" y="540"/>
                </a:cubicBezTo>
                <a:cubicBezTo>
                  <a:pt x="43" y="557"/>
                  <a:pt x="38" y="577"/>
                  <a:pt x="27" y="594"/>
                </a:cubicBezTo>
                <a:cubicBezTo>
                  <a:pt x="16" y="639"/>
                  <a:pt x="0" y="692"/>
                  <a:pt x="0" y="73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8600" y="0"/>
          <a:ext cx="312408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31240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86120" y="512640"/>
            <a:ext cx="2442960" cy="2519640"/>
          </a:xfrm>
          <a:custGeom>
            <a:avLst/>
            <a:gdLst/>
            <a:ahLst/>
            <a:rect l="l" t="t" r="r" b="b"/>
            <a:pathLst>
              <a:path w="1539" h="1587">
                <a:moveTo>
                  <a:pt x="0" y="46"/>
                </a:moveTo>
                <a:cubicBezTo>
                  <a:pt x="54" y="28"/>
                  <a:pt x="107" y="12"/>
                  <a:pt x="162" y="1"/>
                </a:cubicBezTo>
                <a:cubicBezTo>
                  <a:pt x="201" y="4"/>
                  <a:pt x="241" y="0"/>
                  <a:pt x="279" y="10"/>
                </a:cubicBezTo>
                <a:cubicBezTo>
                  <a:pt x="311" y="18"/>
                  <a:pt x="336" y="48"/>
                  <a:pt x="369" y="55"/>
                </a:cubicBezTo>
                <a:cubicBezTo>
                  <a:pt x="384" y="58"/>
                  <a:pt x="399" y="61"/>
                  <a:pt x="414" y="64"/>
                </a:cubicBezTo>
                <a:cubicBezTo>
                  <a:pt x="436" y="81"/>
                  <a:pt x="466" y="98"/>
                  <a:pt x="477" y="127"/>
                </a:cubicBezTo>
                <a:cubicBezTo>
                  <a:pt x="487" y="153"/>
                  <a:pt x="487" y="181"/>
                  <a:pt x="495" y="208"/>
                </a:cubicBezTo>
                <a:cubicBezTo>
                  <a:pt x="505" y="242"/>
                  <a:pt x="520" y="274"/>
                  <a:pt x="531" y="307"/>
                </a:cubicBezTo>
                <a:cubicBezTo>
                  <a:pt x="524" y="427"/>
                  <a:pt x="507" y="539"/>
                  <a:pt x="495" y="658"/>
                </a:cubicBezTo>
                <a:cubicBezTo>
                  <a:pt x="517" y="770"/>
                  <a:pt x="586" y="758"/>
                  <a:pt x="675" y="802"/>
                </a:cubicBezTo>
                <a:cubicBezTo>
                  <a:pt x="732" y="795"/>
                  <a:pt x="782" y="784"/>
                  <a:pt x="837" y="766"/>
                </a:cubicBezTo>
                <a:cubicBezTo>
                  <a:pt x="935" y="777"/>
                  <a:pt x="1005" y="779"/>
                  <a:pt x="1062" y="865"/>
                </a:cubicBezTo>
                <a:cubicBezTo>
                  <a:pt x="1076" y="919"/>
                  <a:pt x="1067" y="889"/>
                  <a:pt x="1089" y="955"/>
                </a:cubicBezTo>
                <a:cubicBezTo>
                  <a:pt x="1092" y="964"/>
                  <a:pt x="1095" y="973"/>
                  <a:pt x="1098" y="982"/>
                </a:cubicBezTo>
                <a:cubicBezTo>
                  <a:pt x="1101" y="991"/>
                  <a:pt x="1107" y="1009"/>
                  <a:pt x="1107" y="1009"/>
                </a:cubicBezTo>
                <a:cubicBezTo>
                  <a:pt x="1099" y="1119"/>
                  <a:pt x="1081" y="1196"/>
                  <a:pt x="1107" y="1306"/>
                </a:cubicBezTo>
                <a:cubicBezTo>
                  <a:pt x="1112" y="1326"/>
                  <a:pt x="1127" y="1341"/>
                  <a:pt x="1134" y="1360"/>
                </a:cubicBezTo>
                <a:cubicBezTo>
                  <a:pt x="1172" y="1459"/>
                  <a:pt x="1144" y="1433"/>
                  <a:pt x="1197" y="1468"/>
                </a:cubicBezTo>
                <a:cubicBezTo>
                  <a:pt x="1245" y="1540"/>
                  <a:pt x="1182" y="1453"/>
                  <a:pt x="1242" y="1513"/>
                </a:cubicBezTo>
                <a:cubicBezTo>
                  <a:pt x="1250" y="1521"/>
                  <a:pt x="1252" y="1532"/>
                  <a:pt x="1260" y="1540"/>
                </a:cubicBezTo>
                <a:cubicBezTo>
                  <a:pt x="1286" y="1566"/>
                  <a:pt x="1325" y="1577"/>
                  <a:pt x="1359" y="1585"/>
                </a:cubicBezTo>
                <a:cubicBezTo>
                  <a:pt x="1374" y="1582"/>
                  <a:pt x="1393" y="1587"/>
                  <a:pt x="1404" y="1576"/>
                </a:cubicBezTo>
                <a:cubicBezTo>
                  <a:pt x="1409" y="1571"/>
                  <a:pt x="1446" y="1460"/>
                  <a:pt x="1449" y="1450"/>
                </a:cubicBezTo>
                <a:cubicBezTo>
                  <a:pt x="1454" y="1432"/>
                  <a:pt x="1467" y="1396"/>
                  <a:pt x="1467" y="1396"/>
                </a:cubicBezTo>
                <a:cubicBezTo>
                  <a:pt x="1464" y="1355"/>
                  <a:pt x="1463" y="1271"/>
                  <a:pt x="1440" y="1225"/>
                </a:cubicBezTo>
                <a:cubicBezTo>
                  <a:pt x="1398" y="1141"/>
                  <a:pt x="1318" y="1092"/>
                  <a:pt x="1287" y="1000"/>
                </a:cubicBezTo>
                <a:cubicBezTo>
                  <a:pt x="1290" y="904"/>
                  <a:pt x="1291" y="808"/>
                  <a:pt x="1296" y="712"/>
                </a:cubicBezTo>
                <a:cubicBezTo>
                  <a:pt x="1297" y="698"/>
                  <a:pt x="1323" y="622"/>
                  <a:pt x="1332" y="613"/>
                </a:cubicBezTo>
                <a:cubicBezTo>
                  <a:pt x="1345" y="600"/>
                  <a:pt x="1421" y="545"/>
                  <a:pt x="1449" y="532"/>
                </a:cubicBezTo>
                <a:cubicBezTo>
                  <a:pt x="1478" y="519"/>
                  <a:pt x="1539" y="505"/>
                  <a:pt x="1539" y="50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8600" y="0"/>
          <a:ext cx="312408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31240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886120" y="512640"/>
            <a:ext cx="2442960" cy="2519640"/>
          </a:xfrm>
          <a:custGeom>
            <a:avLst/>
            <a:gdLst/>
            <a:ahLst/>
            <a:rect l="l" t="t" r="r" b="b"/>
            <a:pathLst>
              <a:path w="1539" h="1587">
                <a:moveTo>
                  <a:pt x="0" y="46"/>
                </a:moveTo>
                <a:cubicBezTo>
                  <a:pt x="54" y="28"/>
                  <a:pt x="107" y="12"/>
                  <a:pt x="162" y="1"/>
                </a:cubicBezTo>
                <a:cubicBezTo>
                  <a:pt x="201" y="4"/>
                  <a:pt x="241" y="0"/>
                  <a:pt x="279" y="10"/>
                </a:cubicBezTo>
                <a:cubicBezTo>
                  <a:pt x="311" y="18"/>
                  <a:pt x="336" y="48"/>
                  <a:pt x="369" y="55"/>
                </a:cubicBezTo>
                <a:cubicBezTo>
                  <a:pt x="384" y="58"/>
                  <a:pt x="399" y="61"/>
                  <a:pt x="414" y="64"/>
                </a:cubicBezTo>
                <a:cubicBezTo>
                  <a:pt x="436" y="81"/>
                  <a:pt x="466" y="98"/>
                  <a:pt x="477" y="127"/>
                </a:cubicBezTo>
                <a:cubicBezTo>
                  <a:pt x="487" y="153"/>
                  <a:pt x="487" y="181"/>
                  <a:pt x="495" y="208"/>
                </a:cubicBezTo>
                <a:cubicBezTo>
                  <a:pt x="505" y="242"/>
                  <a:pt x="520" y="274"/>
                  <a:pt x="531" y="307"/>
                </a:cubicBezTo>
                <a:cubicBezTo>
                  <a:pt x="524" y="427"/>
                  <a:pt x="507" y="539"/>
                  <a:pt x="495" y="658"/>
                </a:cubicBezTo>
                <a:cubicBezTo>
                  <a:pt x="517" y="770"/>
                  <a:pt x="586" y="758"/>
                  <a:pt x="675" y="802"/>
                </a:cubicBezTo>
                <a:cubicBezTo>
                  <a:pt x="732" y="795"/>
                  <a:pt x="782" y="784"/>
                  <a:pt x="837" y="766"/>
                </a:cubicBezTo>
                <a:cubicBezTo>
                  <a:pt x="935" y="777"/>
                  <a:pt x="1005" y="779"/>
                  <a:pt x="1062" y="865"/>
                </a:cubicBezTo>
                <a:cubicBezTo>
                  <a:pt x="1076" y="919"/>
                  <a:pt x="1067" y="889"/>
                  <a:pt x="1089" y="955"/>
                </a:cubicBezTo>
                <a:cubicBezTo>
                  <a:pt x="1092" y="964"/>
                  <a:pt x="1095" y="973"/>
                  <a:pt x="1098" y="982"/>
                </a:cubicBezTo>
                <a:cubicBezTo>
                  <a:pt x="1101" y="991"/>
                  <a:pt x="1107" y="1009"/>
                  <a:pt x="1107" y="1009"/>
                </a:cubicBezTo>
                <a:cubicBezTo>
                  <a:pt x="1099" y="1119"/>
                  <a:pt x="1081" y="1196"/>
                  <a:pt x="1107" y="1306"/>
                </a:cubicBezTo>
                <a:cubicBezTo>
                  <a:pt x="1112" y="1326"/>
                  <a:pt x="1127" y="1341"/>
                  <a:pt x="1134" y="1360"/>
                </a:cubicBezTo>
                <a:cubicBezTo>
                  <a:pt x="1172" y="1459"/>
                  <a:pt x="1144" y="1433"/>
                  <a:pt x="1197" y="1468"/>
                </a:cubicBezTo>
                <a:cubicBezTo>
                  <a:pt x="1245" y="1540"/>
                  <a:pt x="1182" y="1453"/>
                  <a:pt x="1242" y="1513"/>
                </a:cubicBezTo>
                <a:cubicBezTo>
                  <a:pt x="1250" y="1521"/>
                  <a:pt x="1252" y="1532"/>
                  <a:pt x="1260" y="1540"/>
                </a:cubicBezTo>
                <a:cubicBezTo>
                  <a:pt x="1286" y="1566"/>
                  <a:pt x="1325" y="1577"/>
                  <a:pt x="1359" y="1585"/>
                </a:cubicBezTo>
                <a:cubicBezTo>
                  <a:pt x="1374" y="1582"/>
                  <a:pt x="1393" y="1587"/>
                  <a:pt x="1404" y="1576"/>
                </a:cubicBezTo>
                <a:cubicBezTo>
                  <a:pt x="1409" y="1571"/>
                  <a:pt x="1446" y="1460"/>
                  <a:pt x="1449" y="1450"/>
                </a:cubicBezTo>
                <a:cubicBezTo>
                  <a:pt x="1454" y="1432"/>
                  <a:pt x="1467" y="1396"/>
                  <a:pt x="1467" y="1396"/>
                </a:cubicBezTo>
                <a:cubicBezTo>
                  <a:pt x="1464" y="1355"/>
                  <a:pt x="1463" y="1271"/>
                  <a:pt x="1440" y="1225"/>
                </a:cubicBezTo>
                <a:cubicBezTo>
                  <a:pt x="1398" y="1141"/>
                  <a:pt x="1318" y="1092"/>
                  <a:pt x="1287" y="1000"/>
                </a:cubicBezTo>
                <a:cubicBezTo>
                  <a:pt x="1290" y="904"/>
                  <a:pt x="1291" y="808"/>
                  <a:pt x="1296" y="712"/>
                </a:cubicBezTo>
                <a:cubicBezTo>
                  <a:pt x="1297" y="698"/>
                  <a:pt x="1323" y="622"/>
                  <a:pt x="1332" y="613"/>
                </a:cubicBezTo>
                <a:cubicBezTo>
                  <a:pt x="1345" y="600"/>
                  <a:pt x="1421" y="545"/>
                  <a:pt x="1449" y="532"/>
                </a:cubicBezTo>
                <a:cubicBezTo>
                  <a:pt x="1478" y="519"/>
                  <a:pt x="1539" y="505"/>
                  <a:pt x="1539" y="50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53080" y="1981080"/>
            <a:ext cx="1981440" cy="19051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114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color               gre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14600" y="152280"/>
          <a:ext cx="34290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52280"/>
                    <a:ext cx="3429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79360" y="592200"/>
            <a:ext cx="2584440" cy="3193920"/>
          </a:xfrm>
          <a:custGeom>
            <a:avLst/>
            <a:gdLst/>
            <a:ahLst/>
            <a:rect l="l" t="t" r="r" b="b"/>
            <a:pathLst>
              <a:path w="1628" h="2012">
                <a:moveTo>
                  <a:pt x="1597" y="86"/>
                </a:moveTo>
                <a:cubicBezTo>
                  <a:pt x="1468" y="60"/>
                  <a:pt x="1628" y="96"/>
                  <a:pt x="1516" y="59"/>
                </a:cubicBezTo>
                <a:cubicBezTo>
                  <a:pt x="1493" y="51"/>
                  <a:pt x="1444" y="41"/>
                  <a:pt x="1444" y="41"/>
                </a:cubicBezTo>
                <a:cubicBezTo>
                  <a:pt x="1382" y="0"/>
                  <a:pt x="1352" y="11"/>
                  <a:pt x="1264" y="5"/>
                </a:cubicBezTo>
                <a:cubicBezTo>
                  <a:pt x="1197" y="12"/>
                  <a:pt x="1133" y="22"/>
                  <a:pt x="1066" y="32"/>
                </a:cubicBezTo>
                <a:cubicBezTo>
                  <a:pt x="1026" y="45"/>
                  <a:pt x="1034" y="64"/>
                  <a:pt x="994" y="77"/>
                </a:cubicBezTo>
                <a:cubicBezTo>
                  <a:pt x="976" y="131"/>
                  <a:pt x="918" y="225"/>
                  <a:pt x="877" y="266"/>
                </a:cubicBezTo>
                <a:cubicBezTo>
                  <a:pt x="857" y="326"/>
                  <a:pt x="845" y="323"/>
                  <a:pt x="787" y="338"/>
                </a:cubicBezTo>
                <a:cubicBezTo>
                  <a:pt x="622" y="332"/>
                  <a:pt x="481" y="317"/>
                  <a:pt x="319" y="347"/>
                </a:cubicBezTo>
                <a:cubicBezTo>
                  <a:pt x="279" y="354"/>
                  <a:pt x="261" y="404"/>
                  <a:pt x="229" y="428"/>
                </a:cubicBezTo>
                <a:cubicBezTo>
                  <a:pt x="119" y="511"/>
                  <a:pt x="88" y="669"/>
                  <a:pt x="67" y="797"/>
                </a:cubicBezTo>
                <a:cubicBezTo>
                  <a:pt x="75" y="910"/>
                  <a:pt x="78" y="999"/>
                  <a:pt x="202" y="1040"/>
                </a:cubicBezTo>
                <a:cubicBezTo>
                  <a:pt x="262" y="1035"/>
                  <a:pt x="325" y="1041"/>
                  <a:pt x="382" y="1022"/>
                </a:cubicBezTo>
                <a:cubicBezTo>
                  <a:pt x="394" y="1018"/>
                  <a:pt x="402" y="1005"/>
                  <a:pt x="409" y="995"/>
                </a:cubicBezTo>
                <a:cubicBezTo>
                  <a:pt x="452" y="936"/>
                  <a:pt x="473" y="876"/>
                  <a:pt x="490" y="806"/>
                </a:cubicBezTo>
                <a:cubicBezTo>
                  <a:pt x="486" y="761"/>
                  <a:pt x="497" y="709"/>
                  <a:pt x="472" y="671"/>
                </a:cubicBezTo>
                <a:cubicBezTo>
                  <a:pt x="456" y="647"/>
                  <a:pt x="407" y="624"/>
                  <a:pt x="382" y="608"/>
                </a:cubicBezTo>
                <a:cubicBezTo>
                  <a:pt x="287" y="615"/>
                  <a:pt x="231" y="592"/>
                  <a:pt x="202" y="680"/>
                </a:cubicBezTo>
                <a:cubicBezTo>
                  <a:pt x="205" y="710"/>
                  <a:pt x="206" y="740"/>
                  <a:pt x="211" y="770"/>
                </a:cubicBezTo>
                <a:cubicBezTo>
                  <a:pt x="219" y="823"/>
                  <a:pt x="305" y="928"/>
                  <a:pt x="346" y="959"/>
                </a:cubicBezTo>
                <a:cubicBezTo>
                  <a:pt x="352" y="1144"/>
                  <a:pt x="373" y="1299"/>
                  <a:pt x="346" y="1481"/>
                </a:cubicBezTo>
                <a:cubicBezTo>
                  <a:pt x="339" y="1530"/>
                  <a:pt x="302" y="1583"/>
                  <a:pt x="256" y="1598"/>
                </a:cubicBezTo>
                <a:cubicBezTo>
                  <a:pt x="208" y="1634"/>
                  <a:pt x="162" y="1672"/>
                  <a:pt x="112" y="1706"/>
                </a:cubicBezTo>
                <a:cubicBezTo>
                  <a:pt x="94" y="1718"/>
                  <a:pt x="76" y="1730"/>
                  <a:pt x="58" y="1742"/>
                </a:cubicBezTo>
                <a:cubicBezTo>
                  <a:pt x="49" y="1748"/>
                  <a:pt x="31" y="1760"/>
                  <a:pt x="31" y="1760"/>
                </a:cubicBezTo>
                <a:cubicBezTo>
                  <a:pt x="0" y="1853"/>
                  <a:pt x="22" y="1891"/>
                  <a:pt x="22" y="2012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2514600" y="152280"/>
          <a:ext cx="3429000" cy="117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152280"/>
                    <a:ext cx="3429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79360" y="592200"/>
            <a:ext cx="2584440" cy="3193920"/>
          </a:xfrm>
          <a:custGeom>
            <a:avLst/>
            <a:gdLst/>
            <a:ahLst/>
            <a:rect l="l" t="t" r="r" b="b"/>
            <a:pathLst>
              <a:path w="1628" h="2012">
                <a:moveTo>
                  <a:pt x="1597" y="86"/>
                </a:moveTo>
                <a:cubicBezTo>
                  <a:pt x="1468" y="60"/>
                  <a:pt x="1628" y="96"/>
                  <a:pt x="1516" y="59"/>
                </a:cubicBezTo>
                <a:cubicBezTo>
                  <a:pt x="1493" y="51"/>
                  <a:pt x="1444" y="41"/>
                  <a:pt x="1444" y="41"/>
                </a:cubicBezTo>
                <a:cubicBezTo>
                  <a:pt x="1382" y="0"/>
                  <a:pt x="1352" y="11"/>
                  <a:pt x="1264" y="5"/>
                </a:cubicBezTo>
                <a:cubicBezTo>
                  <a:pt x="1197" y="12"/>
                  <a:pt x="1133" y="22"/>
                  <a:pt x="1066" y="32"/>
                </a:cubicBezTo>
                <a:cubicBezTo>
                  <a:pt x="1026" y="45"/>
                  <a:pt x="1034" y="64"/>
                  <a:pt x="994" y="77"/>
                </a:cubicBezTo>
                <a:cubicBezTo>
                  <a:pt x="976" y="131"/>
                  <a:pt x="918" y="225"/>
                  <a:pt x="877" y="266"/>
                </a:cubicBezTo>
                <a:cubicBezTo>
                  <a:pt x="857" y="326"/>
                  <a:pt x="845" y="323"/>
                  <a:pt x="787" y="338"/>
                </a:cubicBezTo>
                <a:cubicBezTo>
                  <a:pt x="622" y="332"/>
                  <a:pt x="481" y="317"/>
                  <a:pt x="319" y="347"/>
                </a:cubicBezTo>
                <a:cubicBezTo>
                  <a:pt x="279" y="354"/>
                  <a:pt x="261" y="404"/>
                  <a:pt x="229" y="428"/>
                </a:cubicBezTo>
                <a:cubicBezTo>
                  <a:pt x="119" y="511"/>
                  <a:pt x="88" y="669"/>
                  <a:pt x="67" y="797"/>
                </a:cubicBezTo>
                <a:cubicBezTo>
                  <a:pt x="75" y="910"/>
                  <a:pt x="78" y="999"/>
                  <a:pt x="202" y="1040"/>
                </a:cubicBezTo>
                <a:cubicBezTo>
                  <a:pt x="262" y="1035"/>
                  <a:pt x="325" y="1041"/>
                  <a:pt x="382" y="1022"/>
                </a:cubicBezTo>
                <a:cubicBezTo>
                  <a:pt x="394" y="1018"/>
                  <a:pt x="402" y="1005"/>
                  <a:pt x="409" y="995"/>
                </a:cubicBezTo>
                <a:cubicBezTo>
                  <a:pt x="452" y="936"/>
                  <a:pt x="473" y="876"/>
                  <a:pt x="490" y="806"/>
                </a:cubicBezTo>
                <a:cubicBezTo>
                  <a:pt x="486" y="761"/>
                  <a:pt x="497" y="709"/>
                  <a:pt x="472" y="671"/>
                </a:cubicBezTo>
                <a:cubicBezTo>
                  <a:pt x="456" y="647"/>
                  <a:pt x="407" y="624"/>
                  <a:pt x="382" y="608"/>
                </a:cubicBezTo>
                <a:cubicBezTo>
                  <a:pt x="287" y="615"/>
                  <a:pt x="231" y="592"/>
                  <a:pt x="202" y="680"/>
                </a:cubicBezTo>
                <a:cubicBezTo>
                  <a:pt x="205" y="710"/>
                  <a:pt x="206" y="740"/>
                  <a:pt x="211" y="770"/>
                </a:cubicBezTo>
                <a:cubicBezTo>
                  <a:pt x="219" y="823"/>
                  <a:pt x="305" y="928"/>
                  <a:pt x="346" y="959"/>
                </a:cubicBezTo>
                <a:cubicBezTo>
                  <a:pt x="352" y="1144"/>
                  <a:pt x="373" y="1299"/>
                  <a:pt x="346" y="1481"/>
                </a:cubicBezTo>
                <a:cubicBezTo>
                  <a:pt x="339" y="1530"/>
                  <a:pt x="302" y="1583"/>
                  <a:pt x="256" y="1598"/>
                </a:cubicBezTo>
                <a:cubicBezTo>
                  <a:pt x="208" y="1634"/>
                  <a:pt x="162" y="1672"/>
                  <a:pt x="112" y="1706"/>
                </a:cubicBezTo>
                <a:cubicBezTo>
                  <a:pt x="94" y="1718"/>
                  <a:pt x="76" y="1730"/>
                  <a:pt x="58" y="1742"/>
                </a:cubicBezTo>
                <a:cubicBezTo>
                  <a:pt x="49" y="1748"/>
                  <a:pt x="31" y="1760"/>
                  <a:pt x="31" y="1760"/>
                </a:cubicBezTo>
                <a:cubicBezTo>
                  <a:pt x="0" y="1853"/>
                  <a:pt x="22" y="1891"/>
                  <a:pt x="22" y="2012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514600" y="152280"/>
          <a:ext cx="34290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52280"/>
                    <a:ext cx="3429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79360" y="592200"/>
            <a:ext cx="2584440" cy="3193920"/>
          </a:xfrm>
          <a:custGeom>
            <a:avLst/>
            <a:gdLst/>
            <a:ahLst/>
            <a:rect l="l" t="t" r="r" b="b"/>
            <a:pathLst>
              <a:path w="1628" h="2012">
                <a:moveTo>
                  <a:pt x="1597" y="86"/>
                </a:moveTo>
                <a:cubicBezTo>
                  <a:pt x="1468" y="60"/>
                  <a:pt x="1628" y="96"/>
                  <a:pt x="1516" y="59"/>
                </a:cubicBezTo>
                <a:cubicBezTo>
                  <a:pt x="1493" y="51"/>
                  <a:pt x="1444" y="41"/>
                  <a:pt x="1444" y="41"/>
                </a:cubicBezTo>
                <a:cubicBezTo>
                  <a:pt x="1382" y="0"/>
                  <a:pt x="1352" y="11"/>
                  <a:pt x="1264" y="5"/>
                </a:cubicBezTo>
                <a:cubicBezTo>
                  <a:pt x="1197" y="12"/>
                  <a:pt x="1133" y="22"/>
                  <a:pt x="1066" y="32"/>
                </a:cubicBezTo>
                <a:cubicBezTo>
                  <a:pt x="1026" y="45"/>
                  <a:pt x="1034" y="64"/>
                  <a:pt x="994" y="77"/>
                </a:cubicBezTo>
                <a:cubicBezTo>
                  <a:pt x="976" y="131"/>
                  <a:pt x="918" y="225"/>
                  <a:pt x="877" y="266"/>
                </a:cubicBezTo>
                <a:cubicBezTo>
                  <a:pt x="857" y="326"/>
                  <a:pt x="845" y="323"/>
                  <a:pt x="787" y="338"/>
                </a:cubicBezTo>
                <a:cubicBezTo>
                  <a:pt x="622" y="332"/>
                  <a:pt x="481" y="317"/>
                  <a:pt x="319" y="347"/>
                </a:cubicBezTo>
                <a:cubicBezTo>
                  <a:pt x="279" y="354"/>
                  <a:pt x="261" y="404"/>
                  <a:pt x="229" y="428"/>
                </a:cubicBezTo>
                <a:cubicBezTo>
                  <a:pt x="119" y="511"/>
                  <a:pt x="88" y="669"/>
                  <a:pt x="67" y="797"/>
                </a:cubicBezTo>
                <a:cubicBezTo>
                  <a:pt x="75" y="910"/>
                  <a:pt x="78" y="999"/>
                  <a:pt x="202" y="1040"/>
                </a:cubicBezTo>
                <a:cubicBezTo>
                  <a:pt x="262" y="1035"/>
                  <a:pt x="325" y="1041"/>
                  <a:pt x="382" y="1022"/>
                </a:cubicBezTo>
                <a:cubicBezTo>
                  <a:pt x="394" y="1018"/>
                  <a:pt x="402" y="1005"/>
                  <a:pt x="409" y="995"/>
                </a:cubicBezTo>
                <a:cubicBezTo>
                  <a:pt x="452" y="936"/>
                  <a:pt x="473" y="876"/>
                  <a:pt x="490" y="806"/>
                </a:cubicBezTo>
                <a:cubicBezTo>
                  <a:pt x="486" y="761"/>
                  <a:pt x="497" y="709"/>
                  <a:pt x="472" y="671"/>
                </a:cubicBezTo>
                <a:cubicBezTo>
                  <a:pt x="456" y="647"/>
                  <a:pt x="407" y="624"/>
                  <a:pt x="382" y="608"/>
                </a:cubicBezTo>
                <a:cubicBezTo>
                  <a:pt x="287" y="615"/>
                  <a:pt x="231" y="592"/>
                  <a:pt x="202" y="680"/>
                </a:cubicBezTo>
                <a:cubicBezTo>
                  <a:pt x="205" y="710"/>
                  <a:pt x="206" y="740"/>
                  <a:pt x="211" y="770"/>
                </a:cubicBezTo>
                <a:cubicBezTo>
                  <a:pt x="219" y="823"/>
                  <a:pt x="305" y="928"/>
                  <a:pt x="346" y="959"/>
                </a:cubicBezTo>
                <a:cubicBezTo>
                  <a:pt x="352" y="1144"/>
                  <a:pt x="373" y="1299"/>
                  <a:pt x="346" y="1481"/>
                </a:cubicBezTo>
                <a:cubicBezTo>
                  <a:pt x="339" y="1530"/>
                  <a:pt x="302" y="1583"/>
                  <a:pt x="256" y="1598"/>
                </a:cubicBezTo>
                <a:cubicBezTo>
                  <a:pt x="208" y="1634"/>
                  <a:pt x="162" y="1672"/>
                  <a:pt x="112" y="1706"/>
                </a:cubicBezTo>
                <a:cubicBezTo>
                  <a:pt x="94" y="1718"/>
                  <a:pt x="76" y="1730"/>
                  <a:pt x="58" y="1742"/>
                </a:cubicBezTo>
                <a:cubicBezTo>
                  <a:pt x="49" y="1748"/>
                  <a:pt x="31" y="1760"/>
                  <a:pt x="31" y="1760"/>
                </a:cubicBezTo>
                <a:cubicBezTo>
                  <a:pt x="0" y="1853"/>
                  <a:pt x="22" y="1891"/>
                  <a:pt x="22" y="2012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514600" y="152280"/>
          <a:ext cx="34290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52280"/>
                    <a:ext cx="3429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9360" y="592200"/>
            <a:ext cx="2584440" cy="3193920"/>
          </a:xfrm>
          <a:custGeom>
            <a:avLst/>
            <a:gdLst/>
            <a:ahLst/>
            <a:rect l="l" t="t" r="r" b="b"/>
            <a:pathLst>
              <a:path w="1628" h="2012">
                <a:moveTo>
                  <a:pt x="1597" y="86"/>
                </a:moveTo>
                <a:cubicBezTo>
                  <a:pt x="1468" y="60"/>
                  <a:pt x="1628" y="96"/>
                  <a:pt x="1516" y="59"/>
                </a:cubicBezTo>
                <a:cubicBezTo>
                  <a:pt x="1493" y="51"/>
                  <a:pt x="1444" y="41"/>
                  <a:pt x="1444" y="41"/>
                </a:cubicBezTo>
                <a:cubicBezTo>
                  <a:pt x="1382" y="0"/>
                  <a:pt x="1352" y="11"/>
                  <a:pt x="1264" y="5"/>
                </a:cubicBezTo>
                <a:cubicBezTo>
                  <a:pt x="1197" y="12"/>
                  <a:pt x="1133" y="22"/>
                  <a:pt x="1066" y="32"/>
                </a:cubicBezTo>
                <a:cubicBezTo>
                  <a:pt x="1026" y="45"/>
                  <a:pt x="1034" y="64"/>
                  <a:pt x="994" y="77"/>
                </a:cubicBezTo>
                <a:cubicBezTo>
                  <a:pt x="976" y="131"/>
                  <a:pt x="918" y="225"/>
                  <a:pt x="877" y="266"/>
                </a:cubicBezTo>
                <a:cubicBezTo>
                  <a:pt x="857" y="326"/>
                  <a:pt x="845" y="323"/>
                  <a:pt x="787" y="338"/>
                </a:cubicBezTo>
                <a:cubicBezTo>
                  <a:pt x="622" y="332"/>
                  <a:pt x="481" y="317"/>
                  <a:pt x="319" y="347"/>
                </a:cubicBezTo>
                <a:cubicBezTo>
                  <a:pt x="279" y="354"/>
                  <a:pt x="261" y="404"/>
                  <a:pt x="229" y="428"/>
                </a:cubicBezTo>
                <a:cubicBezTo>
                  <a:pt x="119" y="511"/>
                  <a:pt x="88" y="669"/>
                  <a:pt x="67" y="797"/>
                </a:cubicBezTo>
                <a:cubicBezTo>
                  <a:pt x="75" y="910"/>
                  <a:pt x="78" y="999"/>
                  <a:pt x="202" y="1040"/>
                </a:cubicBezTo>
                <a:cubicBezTo>
                  <a:pt x="262" y="1035"/>
                  <a:pt x="325" y="1041"/>
                  <a:pt x="382" y="1022"/>
                </a:cubicBezTo>
                <a:cubicBezTo>
                  <a:pt x="394" y="1018"/>
                  <a:pt x="402" y="1005"/>
                  <a:pt x="409" y="995"/>
                </a:cubicBezTo>
                <a:cubicBezTo>
                  <a:pt x="452" y="936"/>
                  <a:pt x="473" y="876"/>
                  <a:pt x="490" y="806"/>
                </a:cubicBezTo>
                <a:cubicBezTo>
                  <a:pt x="486" y="761"/>
                  <a:pt x="497" y="709"/>
                  <a:pt x="472" y="671"/>
                </a:cubicBezTo>
                <a:cubicBezTo>
                  <a:pt x="456" y="647"/>
                  <a:pt x="407" y="624"/>
                  <a:pt x="382" y="608"/>
                </a:cubicBezTo>
                <a:cubicBezTo>
                  <a:pt x="287" y="615"/>
                  <a:pt x="231" y="592"/>
                  <a:pt x="202" y="680"/>
                </a:cubicBezTo>
                <a:cubicBezTo>
                  <a:pt x="205" y="710"/>
                  <a:pt x="206" y="740"/>
                  <a:pt x="211" y="770"/>
                </a:cubicBezTo>
                <a:cubicBezTo>
                  <a:pt x="219" y="823"/>
                  <a:pt x="305" y="928"/>
                  <a:pt x="346" y="959"/>
                </a:cubicBezTo>
                <a:cubicBezTo>
                  <a:pt x="352" y="1144"/>
                  <a:pt x="373" y="1299"/>
                  <a:pt x="346" y="1481"/>
                </a:cubicBezTo>
                <a:cubicBezTo>
                  <a:pt x="339" y="1530"/>
                  <a:pt x="302" y="1583"/>
                  <a:pt x="256" y="1598"/>
                </a:cubicBezTo>
                <a:cubicBezTo>
                  <a:pt x="208" y="1634"/>
                  <a:pt x="162" y="1672"/>
                  <a:pt x="112" y="1706"/>
                </a:cubicBezTo>
                <a:cubicBezTo>
                  <a:pt x="94" y="1718"/>
                  <a:pt x="76" y="1730"/>
                  <a:pt x="58" y="1742"/>
                </a:cubicBezTo>
                <a:cubicBezTo>
                  <a:pt x="49" y="1748"/>
                  <a:pt x="31" y="1760"/>
                  <a:pt x="31" y="1760"/>
                </a:cubicBezTo>
                <a:cubicBezTo>
                  <a:pt x="0" y="1853"/>
                  <a:pt x="22" y="1891"/>
                  <a:pt x="22" y="2012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400800" y="2209680"/>
            <a:ext cx="1676520" cy="1611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114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color           brow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077320" y="76320"/>
          <a:ext cx="7588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76320"/>
                    <a:ext cx="75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329000" y="3029040"/>
            <a:ext cx="4472280" cy="3636720"/>
          </a:xfrm>
          <a:custGeom>
            <a:avLst/>
            <a:gdLst/>
            <a:ahLst/>
            <a:rect l="l" t="t" r="r" b="b"/>
            <a:pathLst>
              <a:path w="2817" h="2291">
                <a:moveTo>
                  <a:pt x="2565" y="0"/>
                </a:moveTo>
                <a:cubicBezTo>
                  <a:pt x="2558" y="37"/>
                  <a:pt x="2547" y="71"/>
                  <a:pt x="2538" y="108"/>
                </a:cubicBezTo>
                <a:cubicBezTo>
                  <a:pt x="2547" y="247"/>
                  <a:pt x="2540" y="239"/>
                  <a:pt x="2592" y="342"/>
                </a:cubicBezTo>
                <a:cubicBezTo>
                  <a:pt x="2604" y="365"/>
                  <a:pt x="2612" y="403"/>
                  <a:pt x="2628" y="423"/>
                </a:cubicBezTo>
                <a:cubicBezTo>
                  <a:pt x="2635" y="431"/>
                  <a:pt x="2647" y="434"/>
                  <a:pt x="2655" y="441"/>
                </a:cubicBezTo>
                <a:cubicBezTo>
                  <a:pt x="2665" y="449"/>
                  <a:pt x="2675" y="458"/>
                  <a:pt x="2682" y="468"/>
                </a:cubicBezTo>
                <a:cubicBezTo>
                  <a:pt x="2699" y="491"/>
                  <a:pt x="2710" y="533"/>
                  <a:pt x="2718" y="558"/>
                </a:cubicBezTo>
                <a:cubicBezTo>
                  <a:pt x="2726" y="582"/>
                  <a:pt x="2765" y="651"/>
                  <a:pt x="2781" y="675"/>
                </a:cubicBezTo>
                <a:cubicBezTo>
                  <a:pt x="2803" y="763"/>
                  <a:pt x="2790" y="724"/>
                  <a:pt x="2817" y="792"/>
                </a:cubicBezTo>
                <a:cubicBezTo>
                  <a:pt x="2814" y="879"/>
                  <a:pt x="2816" y="966"/>
                  <a:pt x="2808" y="1053"/>
                </a:cubicBezTo>
                <a:cubicBezTo>
                  <a:pt x="2804" y="1100"/>
                  <a:pt x="2763" y="1129"/>
                  <a:pt x="2736" y="1161"/>
                </a:cubicBezTo>
                <a:cubicBezTo>
                  <a:pt x="2668" y="1243"/>
                  <a:pt x="2569" y="1301"/>
                  <a:pt x="2493" y="1377"/>
                </a:cubicBezTo>
                <a:cubicBezTo>
                  <a:pt x="2479" y="1419"/>
                  <a:pt x="2456" y="1459"/>
                  <a:pt x="2430" y="1494"/>
                </a:cubicBezTo>
                <a:cubicBezTo>
                  <a:pt x="2424" y="1512"/>
                  <a:pt x="2418" y="1530"/>
                  <a:pt x="2412" y="1548"/>
                </a:cubicBezTo>
                <a:cubicBezTo>
                  <a:pt x="2409" y="1557"/>
                  <a:pt x="2403" y="1575"/>
                  <a:pt x="2403" y="1575"/>
                </a:cubicBezTo>
                <a:cubicBezTo>
                  <a:pt x="2413" y="1795"/>
                  <a:pt x="2375" y="1718"/>
                  <a:pt x="2448" y="1827"/>
                </a:cubicBezTo>
                <a:cubicBezTo>
                  <a:pt x="2477" y="1870"/>
                  <a:pt x="2463" y="1844"/>
                  <a:pt x="2484" y="1908"/>
                </a:cubicBezTo>
                <a:cubicBezTo>
                  <a:pt x="2487" y="1917"/>
                  <a:pt x="2493" y="1935"/>
                  <a:pt x="2493" y="1935"/>
                </a:cubicBezTo>
                <a:cubicBezTo>
                  <a:pt x="2474" y="2011"/>
                  <a:pt x="2445" y="2025"/>
                  <a:pt x="2385" y="2061"/>
                </a:cubicBezTo>
                <a:cubicBezTo>
                  <a:pt x="2366" y="2072"/>
                  <a:pt x="2348" y="2084"/>
                  <a:pt x="2331" y="2097"/>
                </a:cubicBezTo>
                <a:cubicBezTo>
                  <a:pt x="2307" y="2115"/>
                  <a:pt x="2289" y="2147"/>
                  <a:pt x="2259" y="2151"/>
                </a:cubicBezTo>
                <a:cubicBezTo>
                  <a:pt x="2142" y="2166"/>
                  <a:pt x="2058" y="2181"/>
                  <a:pt x="1935" y="2187"/>
                </a:cubicBezTo>
                <a:cubicBezTo>
                  <a:pt x="1678" y="2251"/>
                  <a:pt x="1394" y="2227"/>
                  <a:pt x="1134" y="2232"/>
                </a:cubicBezTo>
                <a:cubicBezTo>
                  <a:pt x="824" y="2224"/>
                  <a:pt x="517" y="2229"/>
                  <a:pt x="207" y="2241"/>
                </a:cubicBezTo>
                <a:cubicBezTo>
                  <a:pt x="2" y="2232"/>
                  <a:pt x="39" y="2291"/>
                  <a:pt x="0" y="2214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05720" y="2552760"/>
            <a:ext cx="148572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8077320" y="76320"/>
          <a:ext cx="7588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77320" y="76320"/>
                    <a:ext cx="75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329000" y="3029040"/>
            <a:ext cx="4472280" cy="3636720"/>
          </a:xfrm>
          <a:custGeom>
            <a:avLst/>
            <a:gdLst/>
            <a:ahLst/>
            <a:rect l="l" t="t" r="r" b="b"/>
            <a:pathLst>
              <a:path w="2817" h="2291">
                <a:moveTo>
                  <a:pt x="2565" y="0"/>
                </a:moveTo>
                <a:cubicBezTo>
                  <a:pt x="2558" y="37"/>
                  <a:pt x="2547" y="71"/>
                  <a:pt x="2538" y="108"/>
                </a:cubicBezTo>
                <a:cubicBezTo>
                  <a:pt x="2547" y="247"/>
                  <a:pt x="2540" y="239"/>
                  <a:pt x="2592" y="342"/>
                </a:cubicBezTo>
                <a:cubicBezTo>
                  <a:pt x="2604" y="365"/>
                  <a:pt x="2612" y="403"/>
                  <a:pt x="2628" y="423"/>
                </a:cubicBezTo>
                <a:cubicBezTo>
                  <a:pt x="2635" y="431"/>
                  <a:pt x="2647" y="434"/>
                  <a:pt x="2655" y="441"/>
                </a:cubicBezTo>
                <a:cubicBezTo>
                  <a:pt x="2665" y="449"/>
                  <a:pt x="2675" y="458"/>
                  <a:pt x="2682" y="468"/>
                </a:cubicBezTo>
                <a:cubicBezTo>
                  <a:pt x="2699" y="491"/>
                  <a:pt x="2710" y="533"/>
                  <a:pt x="2718" y="558"/>
                </a:cubicBezTo>
                <a:cubicBezTo>
                  <a:pt x="2726" y="582"/>
                  <a:pt x="2765" y="651"/>
                  <a:pt x="2781" y="675"/>
                </a:cubicBezTo>
                <a:cubicBezTo>
                  <a:pt x="2803" y="763"/>
                  <a:pt x="2790" y="724"/>
                  <a:pt x="2817" y="792"/>
                </a:cubicBezTo>
                <a:cubicBezTo>
                  <a:pt x="2814" y="879"/>
                  <a:pt x="2816" y="966"/>
                  <a:pt x="2808" y="1053"/>
                </a:cubicBezTo>
                <a:cubicBezTo>
                  <a:pt x="2804" y="1100"/>
                  <a:pt x="2763" y="1129"/>
                  <a:pt x="2736" y="1161"/>
                </a:cubicBezTo>
                <a:cubicBezTo>
                  <a:pt x="2668" y="1243"/>
                  <a:pt x="2569" y="1301"/>
                  <a:pt x="2493" y="1377"/>
                </a:cubicBezTo>
                <a:cubicBezTo>
                  <a:pt x="2479" y="1419"/>
                  <a:pt x="2456" y="1459"/>
                  <a:pt x="2430" y="1494"/>
                </a:cubicBezTo>
                <a:cubicBezTo>
                  <a:pt x="2424" y="1512"/>
                  <a:pt x="2418" y="1530"/>
                  <a:pt x="2412" y="1548"/>
                </a:cubicBezTo>
                <a:cubicBezTo>
                  <a:pt x="2409" y="1557"/>
                  <a:pt x="2403" y="1575"/>
                  <a:pt x="2403" y="1575"/>
                </a:cubicBezTo>
                <a:cubicBezTo>
                  <a:pt x="2413" y="1795"/>
                  <a:pt x="2375" y="1718"/>
                  <a:pt x="2448" y="1827"/>
                </a:cubicBezTo>
                <a:cubicBezTo>
                  <a:pt x="2477" y="1870"/>
                  <a:pt x="2463" y="1844"/>
                  <a:pt x="2484" y="1908"/>
                </a:cubicBezTo>
                <a:cubicBezTo>
                  <a:pt x="2487" y="1917"/>
                  <a:pt x="2493" y="1935"/>
                  <a:pt x="2493" y="1935"/>
                </a:cubicBezTo>
                <a:cubicBezTo>
                  <a:pt x="2474" y="2011"/>
                  <a:pt x="2445" y="2025"/>
                  <a:pt x="2385" y="2061"/>
                </a:cubicBezTo>
                <a:cubicBezTo>
                  <a:pt x="2366" y="2072"/>
                  <a:pt x="2348" y="2084"/>
                  <a:pt x="2331" y="2097"/>
                </a:cubicBezTo>
                <a:cubicBezTo>
                  <a:pt x="2307" y="2115"/>
                  <a:pt x="2289" y="2147"/>
                  <a:pt x="2259" y="2151"/>
                </a:cubicBezTo>
                <a:cubicBezTo>
                  <a:pt x="2142" y="2166"/>
                  <a:pt x="2058" y="2181"/>
                  <a:pt x="1935" y="2187"/>
                </a:cubicBezTo>
                <a:cubicBezTo>
                  <a:pt x="1678" y="2251"/>
                  <a:pt x="1394" y="2227"/>
                  <a:pt x="1134" y="2232"/>
                </a:cubicBezTo>
                <a:cubicBezTo>
                  <a:pt x="824" y="2224"/>
                  <a:pt x="517" y="2229"/>
                  <a:pt x="207" y="2241"/>
                </a:cubicBezTo>
                <a:cubicBezTo>
                  <a:pt x="2" y="2232"/>
                  <a:pt x="39" y="2291"/>
                  <a:pt x="0" y="2214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77320" y="76320"/>
          <a:ext cx="7588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76320"/>
                    <a:ext cx="75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329000" y="3029040"/>
            <a:ext cx="4472280" cy="3636720"/>
          </a:xfrm>
          <a:custGeom>
            <a:avLst/>
            <a:gdLst/>
            <a:ahLst/>
            <a:rect l="l" t="t" r="r" b="b"/>
            <a:pathLst>
              <a:path w="2817" h="2291">
                <a:moveTo>
                  <a:pt x="2565" y="0"/>
                </a:moveTo>
                <a:cubicBezTo>
                  <a:pt x="2558" y="37"/>
                  <a:pt x="2547" y="71"/>
                  <a:pt x="2538" y="108"/>
                </a:cubicBezTo>
                <a:cubicBezTo>
                  <a:pt x="2547" y="247"/>
                  <a:pt x="2540" y="239"/>
                  <a:pt x="2592" y="342"/>
                </a:cubicBezTo>
                <a:cubicBezTo>
                  <a:pt x="2604" y="365"/>
                  <a:pt x="2612" y="403"/>
                  <a:pt x="2628" y="423"/>
                </a:cubicBezTo>
                <a:cubicBezTo>
                  <a:pt x="2635" y="431"/>
                  <a:pt x="2647" y="434"/>
                  <a:pt x="2655" y="441"/>
                </a:cubicBezTo>
                <a:cubicBezTo>
                  <a:pt x="2665" y="449"/>
                  <a:pt x="2675" y="458"/>
                  <a:pt x="2682" y="468"/>
                </a:cubicBezTo>
                <a:cubicBezTo>
                  <a:pt x="2699" y="491"/>
                  <a:pt x="2710" y="533"/>
                  <a:pt x="2718" y="558"/>
                </a:cubicBezTo>
                <a:cubicBezTo>
                  <a:pt x="2726" y="582"/>
                  <a:pt x="2765" y="651"/>
                  <a:pt x="2781" y="675"/>
                </a:cubicBezTo>
                <a:cubicBezTo>
                  <a:pt x="2803" y="763"/>
                  <a:pt x="2790" y="724"/>
                  <a:pt x="2817" y="792"/>
                </a:cubicBezTo>
                <a:cubicBezTo>
                  <a:pt x="2814" y="879"/>
                  <a:pt x="2816" y="966"/>
                  <a:pt x="2808" y="1053"/>
                </a:cubicBezTo>
                <a:cubicBezTo>
                  <a:pt x="2804" y="1100"/>
                  <a:pt x="2763" y="1129"/>
                  <a:pt x="2736" y="1161"/>
                </a:cubicBezTo>
                <a:cubicBezTo>
                  <a:pt x="2668" y="1243"/>
                  <a:pt x="2569" y="1301"/>
                  <a:pt x="2493" y="1377"/>
                </a:cubicBezTo>
                <a:cubicBezTo>
                  <a:pt x="2479" y="1419"/>
                  <a:pt x="2456" y="1459"/>
                  <a:pt x="2430" y="1494"/>
                </a:cubicBezTo>
                <a:cubicBezTo>
                  <a:pt x="2424" y="1512"/>
                  <a:pt x="2418" y="1530"/>
                  <a:pt x="2412" y="1548"/>
                </a:cubicBezTo>
                <a:cubicBezTo>
                  <a:pt x="2409" y="1557"/>
                  <a:pt x="2403" y="1575"/>
                  <a:pt x="2403" y="1575"/>
                </a:cubicBezTo>
                <a:cubicBezTo>
                  <a:pt x="2413" y="1795"/>
                  <a:pt x="2375" y="1718"/>
                  <a:pt x="2448" y="1827"/>
                </a:cubicBezTo>
                <a:cubicBezTo>
                  <a:pt x="2477" y="1870"/>
                  <a:pt x="2463" y="1844"/>
                  <a:pt x="2484" y="1908"/>
                </a:cubicBezTo>
                <a:cubicBezTo>
                  <a:pt x="2487" y="1917"/>
                  <a:pt x="2493" y="1935"/>
                  <a:pt x="2493" y="1935"/>
                </a:cubicBezTo>
                <a:cubicBezTo>
                  <a:pt x="2474" y="2011"/>
                  <a:pt x="2445" y="2025"/>
                  <a:pt x="2385" y="2061"/>
                </a:cubicBezTo>
                <a:cubicBezTo>
                  <a:pt x="2366" y="2072"/>
                  <a:pt x="2348" y="2084"/>
                  <a:pt x="2331" y="2097"/>
                </a:cubicBezTo>
                <a:cubicBezTo>
                  <a:pt x="2307" y="2115"/>
                  <a:pt x="2289" y="2147"/>
                  <a:pt x="2259" y="2151"/>
                </a:cubicBezTo>
                <a:cubicBezTo>
                  <a:pt x="2142" y="2166"/>
                  <a:pt x="2058" y="2181"/>
                  <a:pt x="1935" y="2187"/>
                </a:cubicBezTo>
                <a:cubicBezTo>
                  <a:pt x="1678" y="2251"/>
                  <a:pt x="1394" y="2227"/>
                  <a:pt x="1134" y="2232"/>
                </a:cubicBezTo>
                <a:cubicBezTo>
                  <a:pt x="824" y="2224"/>
                  <a:pt x="517" y="2229"/>
                  <a:pt x="207" y="2241"/>
                </a:cubicBezTo>
                <a:cubicBezTo>
                  <a:pt x="2" y="2232"/>
                  <a:pt x="39" y="2291"/>
                  <a:pt x="0" y="2214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8077320" y="76320"/>
          <a:ext cx="7588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76320"/>
                    <a:ext cx="75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329000" y="3029040"/>
            <a:ext cx="4472280" cy="3636720"/>
          </a:xfrm>
          <a:custGeom>
            <a:avLst/>
            <a:gdLst/>
            <a:ahLst/>
            <a:rect l="l" t="t" r="r" b="b"/>
            <a:pathLst>
              <a:path w="2817" h="2291">
                <a:moveTo>
                  <a:pt x="2565" y="0"/>
                </a:moveTo>
                <a:cubicBezTo>
                  <a:pt x="2558" y="37"/>
                  <a:pt x="2547" y="71"/>
                  <a:pt x="2538" y="108"/>
                </a:cubicBezTo>
                <a:cubicBezTo>
                  <a:pt x="2547" y="247"/>
                  <a:pt x="2540" y="239"/>
                  <a:pt x="2592" y="342"/>
                </a:cubicBezTo>
                <a:cubicBezTo>
                  <a:pt x="2604" y="365"/>
                  <a:pt x="2612" y="403"/>
                  <a:pt x="2628" y="423"/>
                </a:cubicBezTo>
                <a:cubicBezTo>
                  <a:pt x="2635" y="431"/>
                  <a:pt x="2647" y="434"/>
                  <a:pt x="2655" y="441"/>
                </a:cubicBezTo>
                <a:cubicBezTo>
                  <a:pt x="2665" y="449"/>
                  <a:pt x="2675" y="458"/>
                  <a:pt x="2682" y="468"/>
                </a:cubicBezTo>
                <a:cubicBezTo>
                  <a:pt x="2699" y="491"/>
                  <a:pt x="2710" y="533"/>
                  <a:pt x="2718" y="558"/>
                </a:cubicBezTo>
                <a:cubicBezTo>
                  <a:pt x="2726" y="582"/>
                  <a:pt x="2765" y="651"/>
                  <a:pt x="2781" y="675"/>
                </a:cubicBezTo>
                <a:cubicBezTo>
                  <a:pt x="2803" y="763"/>
                  <a:pt x="2790" y="724"/>
                  <a:pt x="2817" y="792"/>
                </a:cubicBezTo>
                <a:cubicBezTo>
                  <a:pt x="2814" y="879"/>
                  <a:pt x="2816" y="966"/>
                  <a:pt x="2808" y="1053"/>
                </a:cubicBezTo>
                <a:cubicBezTo>
                  <a:pt x="2804" y="1100"/>
                  <a:pt x="2763" y="1129"/>
                  <a:pt x="2736" y="1161"/>
                </a:cubicBezTo>
                <a:cubicBezTo>
                  <a:pt x="2668" y="1243"/>
                  <a:pt x="2569" y="1301"/>
                  <a:pt x="2493" y="1377"/>
                </a:cubicBezTo>
                <a:cubicBezTo>
                  <a:pt x="2479" y="1419"/>
                  <a:pt x="2456" y="1459"/>
                  <a:pt x="2430" y="1494"/>
                </a:cubicBezTo>
                <a:cubicBezTo>
                  <a:pt x="2424" y="1512"/>
                  <a:pt x="2418" y="1530"/>
                  <a:pt x="2412" y="1548"/>
                </a:cubicBezTo>
                <a:cubicBezTo>
                  <a:pt x="2409" y="1557"/>
                  <a:pt x="2403" y="1575"/>
                  <a:pt x="2403" y="1575"/>
                </a:cubicBezTo>
                <a:cubicBezTo>
                  <a:pt x="2413" y="1795"/>
                  <a:pt x="2375" y="1718"/>
                  <a:pt x="2448" y="1827"/>
                </a:cubicBezTo>
                <a:cubicBezTo>
                  <a:pt x="2477" y="1870"/>
                  <a:pt x="2463" y="1844"/>
                  <a:pt x="2484" y="1908"/>
                </a:cubicBezTo>
                <a:cubicBezTo>
                  <a:pt x="2487" y="1917"/>
                  <a:pt x="2493" y="1935"/>
                  <a:pt x="2493" y="1935"/>
                </a:cubicBezTo>
                <a:cubicBezTo>
                  <a:pt x="2474" y="2011"/>
                  <a:pt x="2445" y="2025"/>
                  <a:pt x="2385" y="2061"/>
                </a:cubicBezTo>
                <a:cubicBezTo>
                  <a:pt x="2366" y="2072"/>
                  <a:pt x="2348" y="2084"/>
                  <a:pt x="2331" y="2097"/>
                </a:cubicBezTo>
                <a:cubicBezTo>
                  <a:pt x="2307" y="2115"/>
                  <a:pt x="2289" y="2147"/>
                  <a:pt x="2259" y="2151"/>
                </a:cubicBezTo>
                <a:cubicBezTo>
                  <a:pt x="2142" y="2166"/>
                  <a:pt x="2058" y="2181"/>
                  <a:pt x="1935" y="2187"/>
                </a:cubicBezTo>
                <a:cubicBezTo>
                  <a:pt x="1678" y="2251"/>
                  <a:pt x="1394" y="2227"/>
                  <a:pt x="1134" y="2232"/>
                </a:cubicBezTo>
                <a:cubicBezTo>
                  <a:pt x="824" y="2224"/>
                  <a:pt x="517" y="2229"/>
                  <a:pt x="207" y="2241"/>
                </a:cubicBezTo>
                <a:cubicBezTo>
                  <a:pt x="2" y="2232"/>
                  <a:pt x="39" y="2291"/>
                  <a:pt x="0" y="2214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124080" y="0"/>
          <a:ext cx="28958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0"/>
                    <a:ext cx="28958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85960" y="299880"/>
            <a:ext cx="2300040" cy="1171800"/>
          </a:xfrm>
          <a:custGeom>
            <a:avLst/>
            <a:gdLst/>
            <a:ahLst/>
            <a:rect l="l" t="t" r="r" b="b"/>
            <a:pathLst>
              <a:path w="1449" h="738">
                <a:moveTo>
                  <a:pt x="1449" y="117"/>
                </a:moveTo>
                <a:cubicBezTo>
                  <a:pt x="1370" y="91"/>
                  <a:pt x="1412" y="107"/>
                  <a:pt x="1323" y="63"/>
                </a:cubicBezTo>
                <a:cubicBezTo>
                  <a:pt x="1308" y="55"/>
                  <a:pt x="1301" y="36"/>
                  <a:pt x="1287" y="27"/>
                </a:cubicBezTo>
                <a:cubicBezTo>
                  <a:pt x="1276" y="20"/>
                  <a:pt x="1232" y="6"/>
                  <a:pt x="1215" y="0"/>
                </a:cubicBezTo>
                <a:cubicBezTo>
                  <a:pt x="1112" y="10"/>
                  <a:pt x="1078" y="5"/>
                  <a:pt x="1044" y="108"/>
                </a:cubicBezTo>
                <a:cubicBezTo>
                  <a:pt x="1050" y="153"/>
                  <a:pt x="1057" y="192"/>
                  <a:pt x="1071" y="234"/>
                </a:cubicBezTo>
                <a:cubicBezTo>
                  <a:pt x="1058" y="312"/>
                  <a:pt x="1025" y="353"/>
                  <a:pt x="945" y="369"/>
                </a:cubicBezTo>
                <a:cubicBezTo>
                  <a:pt x="918" y="366"/>
                  <a:pt x="890" y="367"/>
                  <a:pt x="864" y="360"/>
                </a:cubicBezTo>
                <a:cubicBezTo>
                  <a:pt x="824" y="350"/>
                  <a:pt x="803" y="303"/>
                  <a:pt x="765" y="288"/>
                </a:cubicBezTo>
                <a:cubicBezTo>
                  <a:pt x="701" y="262"/>
                  <a:pt x="643" y="220"/>
                  <a:pt x="576" y="207"/>
                </a:cubicBezTo>
                <a:cubicBezTo>
                  <a:pt x="546" y="210"/>
                  <a:pt x="515" y="209"/>
                  <a:pt x="486" y="216"/>
                </a:cubicBezTo>
                <a:cubicBezTo>
                  <a:pt x="453" y="224"/>
                  <a:pt x="433" y="265"/>
                  <a:pt x="414" y="288"/>
                </a:cubicBezTo>
                <a:cubicBezTo>
                  <a:pt x="384" y="324"/>
                  <a:pt x="340" y="352"/>
                  <a:pt x="297" y="369"/>
                </a:cubicBezTo>
                <a:cubicBezTo>
                  <a:pt x="262" y="383"/>
                  <a:pt x="225" y="393"/>
                  <a:pt x="189" y="405"/>
                </a:cubicBezTo>
                <a:cubicBezTo>
                  <a:pt x="171" y="411"/>
                  <a:pt x="135" y="423"/>
                  <a:pt x="135" y="423"/>
                </a:cubicBezTo>
                <a:cubicBezTo>
                  <a:pt x="109" y="463"/>
                  <a:pt x="80" y="500"/>
                  <a:pt x="54" y="540"/>
                </a:cubicBezTo>
                <a:cubicBezTo>
                  <a:pt x="43" y="557"/>
                  <a:pt x="38" y="577"/>
                  <a:pt x="27" y="594"/>
                </a:cubicBezTo>
                <a:cubicBezTo>
                  <a:pt x="16" y="639"/>
                  <a:pt x="0" y="692"/>
                  <a:pt x="0" y="73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00800" y="2209680"/>
            <a:ext cx="1676520" cy="161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114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color            gr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33720" y="228600"/>
          <a:ext cx="28954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"/>
                    <a:ext cx="2895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38040" y="457200"/>
            <a:ext cx="1830600" cy="4730760"/>
          </a:xfrm>
          <a:custGeom>
            <a:avLst/>
            <a:gdLst/>
            <a:ahLst/>
            <a:rect l="l" t="t" r="r" b="b"/>
            <a:pathLst>
              <a:path w="1153" h="2980">
                <a:moveTo>
                  <a:pt x="1153" y="107"/>
                </a:moveTo>
                <a:cubicBezTo>
                  <a:pt x="1064" y="82"/>
                  <a:pt x="973" y="40"/>
                  <a:pt x="890" y="0"/>
                </a:cubicBezTo>
                <a:cubicBezTo>
                  <a:pt x="832" y="11"/>
                  <a:pt x="775" y="27"/>
                  <a:pt x="717" y="41"/>
                </a:cubicBezTo>
                <a:cubicBezTo>
                  <a:pt x="621" y="91"/>
                  <a:pt x="734" y="26"/>
                  <a:pt x="667" y="82"/>
                </a:cubicBezTo>
                <a:cubicBezTo>
                  <a:pt x="650" y="96"/>
                  <a:pt x="627" y="101"/>
                  <a:pt x="610" y="115"/>
                </a:cubicBezTo>
                <a:cubicBezTo>
                  <a:pt x="543" y="167"/>
                  <a:pt x="651" y="93"/>
                  <a:pt x="569" y="148"/>
                </a:cubicBezTo>
                <a:cubicBezTo>
                  <a:pt x="572" y="181"/>
                  <a:pt x="572" y="214"/>
                  <a:pt x="577" y="247"/>
                </a:cubicBezTo>
                <a:cubicBezTo>
                  <a:pt x="588" y="314"/>
                  <a:pt x="641" y="336"/>
                  <a:pt x="684" y="379"/>
                </a:cubicBezTo>
                <a:cubicBezTo>
                  <a:pt x="694" y="410"/>
                  <a:pt x="700" y="422"/>
                  <a:pt x="700" y="461"/>
                </a:cubicBezTo>
                <a:cubicBezTo>
                  <a:pt x="700" y="586"/>
                  <a:pt x="534" y="585"/>
                  <a:pt x="445" y="592"/>
                </a:cubicBezTo>
                <a:cubicBezTo>
                  <a:pt x="396" y="596"/>
                  <a:pt x="346" y="598"/>
                  <a:pt x="297" y="601"/>
                </a:cubicBezTo>
                <a:cubicBezTo>
                  <a:pt x="250" y="646"/>
                  <a:pt x="282" y="620"/>
                  <a:pt x="190" y="667"/>
                </a:cubicBezTo>
                <a:cubicBezTo>
                  <a:pt x="163" y="681"/>
                  <a:pt x="126" y="725"/>
                  <a:pt x="108" y="749"/>
                </a:cubicBezTo>
                <a:cubicBezTo>
                  <a:pt x="87" y="809"/>
                  <a:pt x="95" y="781"/>
                  <a:pt x="83" y="831"/>
                </a:cubicBezTo>
                <a:cubicBezTo>
                  <a:pt x="76" y="894"/>
                  <a:pt x="61" y="978"/>
                  <a:pt x="91" y="1037"/>
                </a:cubicBezTo>
                <a:cubicBezTo>
                  <a:pt x="106" y="1067"/>
                  <a:pt x="146" y="1092"/>
                  <a:pt x="174" y="1111"/>
                </a:cubicBezTo>
                <a:cubicBezTo>
                  <a:pt x="192" y="1139"/>
                  <a:pt x="199" y="1149"/>
                  <a:pt x="231" y="1160"/>
                </a:cubicBezTo>
                <a:cubicBezTo>
                  <a:pt x="261" y="1180"/>
                  <a:pt x="291" y="1191"/>
                  <a:pt x="322" y="1210"/>
                </a:cubicBezTo>
                <a:cubicBezTo>
                  <a:pt x="369" y="1280"/>
                  <a:pt x="287" y="1164"/>
                  <a:pt x="396" y="1275"/>
                </a:cubicBezTo>
                <a:cubicBezTo>
                  <a:pt x="412" y="1292"/>
                  <a:pt x="445" y="1325"/>
                  <a:pt x="445" y="1325"/>
                </a:cubicBezTo>
                <a:cubicBezTo>
                  <a:pt x="442" y="1344"/>
                  <a:pt x="443" y="1364"/>
                  <a:pt x="437" y="1382"/>
                </a:cubicBezTo>
                <a:cubicBezTo>
                  <a:pt x="429" y="1406"/>
                  <a:pt x="312" y="1431"/>
                  <a:pt x="289" y="1440"/>
                </a:cubicBezTo>
                <a:cubicBezTo>
                  <a:pt x="181" y="1482"/>
                  <a:pt x="91" y="1520"/>
                  <a:pt x="26" y="1621"/>
                </a:cubicBezTo>
                <a:cubicBezTo>
                  <a:pt x="5" y="1711"/>
                  <a:pt x="0" y="1790"/>
                  <a:pt x="26" y="1884"/>
                </a:cubicBezTo>
                <a:cubicBezTo>
                  <a:pt x="42" y="2012"/>
                  <a:pt x="68" y="2144"/>
                  <a:pt x="182" y="2222"/>
                </a:cubicBezTo>
                <a:cubicBezTo>
                  <a:pt x="203" y="2286"/>
                  <a:pt x="248" y="2306"/>
                  <a:pt x="289" y="2353"/>
                </a:cubicBezTo>
                <a:cubicBezTo>
                  <a:pt x="326" y="2395"/>
                  <a:pt x="341" y="2445"/>
                  <a:pt x="388" y="2477"/>
                </a:cubicBezTo>
                <a:cubicBezTo>
                  <a:pt x="464" y="2591"/>
                  <a:pt x="327" y="2732"/>
                  <a:pt x="223" y="2765"/>
                </a:cubicBezTo>
                <a:cubicBezTo>
                  <a:pt x="215" y="2776"/>
                  <a:pt x="207" y="2788"/>
                  <a:pt x="198" y="2798"/>
                </a:cubicBezTo>
                <a:cubicBezTo>
                  <a:pt x="191" y="2807"/>
                  <a:pt x="175" y="2811"/>
                  <a:pt x="174" y="2822"/>
                </a:cubicBezTo>
                <a:cubicBezTo>
                  <a:pt x="168" y="2906"/>
                  <a:pt x="224" y="2955"/>
                  <a:pt x="297" y="2971"/>
                </a:cubicBezTo>
                <a:cubicBezTo>
                  <a:pt x="367" y="2960"/>
                  <a:pt x="409" y="2980"/>
                  <a:pt x="454" y="2921"/>
                </a:cubicBezTo>
                <a:cubicBezTo>
                  <a:pt x="472" y="2848"/>
                  <a:pt x="469" y="2831"/>
                  <a:pt x="396" y="283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705720" y="2552760"/>
            <a:ext cx="148572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133720" y="228600"/>
          <a:ext cx="2895480" cy="85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28600"/>
                    <a:ext cx="2895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38040" y="457200"/>
            <a:ext cx="1830600" cy="4730760"/>
          </a:xfrm>
          <a:custGeom>
            <a:avLst/>
            <a:gdLst/>
            <a:ahLst/>
            <a:rect l="l" t="t" r="r" b="b"/>
            <a:pathLst>
              <a:path w="1153" h="2980">
                <a:moveTo>
                  <a:pt x="1153" y="107"/>
                </a:moveTo>
                <a:cubicBezTo>
                  <a:pt x="1064" y="82"/>
                  <a:pt x="973" y="40"/>
                  <a:pt x="890" y="0"/>
                </a:cubicBezTo>
                <a:cubicBezTo>
                  <a:pt x="832" y="11"/>
                  <a:pt x="775" y="27"/>
                  <a:pt x="717" y="41"/>
                </a:cubicBezTo>
                <a:cubicBezTo>
                  <a:pt x="621" y="91"/>
                  <a:pt x="734" y="26"/>
                  <a:pt x="667" y="82"/>
                </a:cubicBezTo>
                <a:cubicBezTo>
                  <a:pt x="650" y="96"/>
                  <a:pt x="627" y="101"/>
                  <a:pt x="610" y="115"/>
                </a:cubicBezTo>
                <a:cubicBezTo>
                  <a:pt x="543" y="167"/>
                  <a:pt x="651" y="93"/>
                  <a:pt x="569" y="148"/>
                </a:cubicBezTo>
                <a:cubicBezTo>
                  <a:pt x="572" y="181"/>
                  <a:pt x="572" y="214"/>
                  <a:pt x="577" y="247"/>
                </a:cubicBezTo>
                <a:cubicBezTo>
                  <a:pt x="588" y="314"/>
                  <a:pt x="641" y="336"/>
                  <a:pt x="684" y="379"/>
                </a:cubicBezTo>
                <a:cubicBezTo>
                  <a:pt x="694" y="410"/>
                  <a:pt x="700" y="422"/>
                  <a:pt x="700" y="461"/>
                </a:cubicBezTo>
                <a:cubicBezTo>
                  <a:pt x="700" y="586"/>
                  <a:pt x="534" y="585"/>
                  <a:pt x="445" y="592"/>
                </a:cubicBezTo>
                <a:cubicBezTo>
                  <a:pt x="396" y="596"/>
                  <a:pt x="346" y="598"/>
                  <a:pt x="297" y="601"/>
                </a:cubicBezTo>
                <a:cubicBezTo>
                  <a:pt x="250" y="646"/>
                  <a:pt x="282" y="620"/>
                  <a:pt x="190" y="667"/>
                </a:cubicBezTo>
                <a:cubicBezTo>
                  <a:pt x="163" y="681"/>
                  <a:pt x="126" y="725"/>
                  <a:pt x="108" y="749"/>
                </a:cubicBezTo>
                <a:cubicBezTo>
                  <a:pt x="87" y="809"/>
                  <a:pt x="95" y="781"/>
                  <a:pt x="83" y="831"/>
                </a:cubicBezTo>
                <a:cubicBezTo>
                  <a:pt x="76" y="894"/>
                  <a:pt x="61" y="978"/>
                  <a:pt x="91" y="1037"/>
                </a:cubicBezTo>
                <a:cubicBezTo>
                  <a:pt x="106" y="1067"/>
                  <a:pt x="146" y="1092"/>
                  <a:pt x="174" y="1111"/>
                </a:cubicBezTo>
                <a:cubicBezTo>
                  <a:pt x="192" y="1139"/>
                  <a:pt x="199" y="1149"/>
                  <a:pt x="231" y="1160"/>
                </a:cubicBezTo>
                <a:cubicBezTo>
                  <a:pt x="261" y="1180"/>
                  <a:pt x="291" y="1191"/>
                  <a:pt x="322" y="1210"/>
                </a:cubicBezTo>
                <a:cubicBezTo>
                  <a:pt x="369" y="1280"/>
                  <a:pt x="287" y="1164"/>
                  <a:pt x="396" y="1275"/>
                </a:cubicBezTo>
                <a:cubicBezTo>
                  <a:pt x="412" y="1292"/>
                  <a:pt x="445" y="1325"/>
                  <a:pt x="445" y="1325"/>
                </a:cubicBezTo>
                <a:cubicBezTo>
                  <a:pt x="442" y="1344"/>
                  <a:pt x="443" y="1364"/>
                  <a:pt x="437" y="1382"/>
                </a:cubicBezTo>
                <a:cubicBezTo>
                  <a:pt x="429" y="1406"/>
                  <a:pt x="312" y="1431"/>
                  <a:pt x="289" y="1440"/>
                </a:cubicBezTo>
                <a:cubicBezTo>
                  <a:pt x="181" y="1482"/>
                  <a:pt x="91" y="1520"/>
                  <a:pt x="26" y="1621"/>
                </a:cubicBezTo>
                <a:cubicBezTo>
                  <a:pt x="5" y="1711"/>
                  <a:pt x="0" y="1790"/>
                  <a:pt x="26" y="1884"/>
                </a:cubicBezTo>
                <a:cubicBezTo>
                  <a:pt x="42" y="2012"/>
                  <a:pt x="68" y="2144"/>
                  <a:pt x="182" y="2222"/>
                </a:cubicBezTo>
                <a:cubicBezTo>
                  <a:pt x="203" y="2286"/>
                  <a:pt x="248" y="2306"/>
                  <a:pt x="289" y="2353"/>
                </a:cubicBezTo>
                <a:cubicBezTo>
                  <a:pt x="326" y="2395"/>
                  <a:pt x="341" y="2445"/>
                  <a:pt x="388" y="2477"/>
                </a:cubicBezTo>
                <a:cubicBezTo>
                  <a:pt x="464" y="2591"/>
                  <a:pt x="327" y="2732"/>
                  <a:pt x="223" y="2765"/>
                </a:cubicBezTo>
                <a:cubicBezTo>
                  <a:pt x="215" y="2776"/>
                  <a:pt x="207" y="2788"/>
                  <a:pt x="198" y="2798"/>
                </a:cubicBezTo>
                <a:cubicBezTo>
                  <a:pt x="191" y="2807"/>
                  <a:pt x="175" y="2811"/>
                  <a:pt x="174" y="2822"/>
                </a:cubicBezTo>
                <a:cubicBezTo>
                  <a:pt x="168" y="2906"/>
                  <a:pt x="224" y="2955"/>
                  <a:pt x="297" y="2971"/>
                </a:cubicBezTo>
                <a:cubicBezTo>
                  <a:pt x="367" y="2960"/>
                  <a:pt x="409" y="2980"/>
                  <a:pt x="454" y="2921"/>
                </a:cubicBezTo>
                <a:cubicBezTo>
                  <a:pt x="472" y="2848"/>
                  <a:pt x="469" y="2831"/>
                  <a:pt x="396" y="283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133720" y="228600"/>
          <a:ext cx="28954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"/>
                    <a:ext cx="2895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38040" y="457200"/>
            <a:ext cx="1830600" cy="4730760"/>
          </a:xfrm>
          <a:custGeom>
            <a:avLst/>
            <a:gdLst/>
            <a:ahLst/>
            <a:rect l="l" t="t" r="r" b="b"/>
            <a:pathLst>
              <a:path w="1153" h="2980">
                <a:moveTo>
                  <a:pt x="1153" y="107"/>
                </a:moveTo>
                <a:cubicBezTo>
                  <a:pt x="1064" y="82"/>
                  <a:pt x="973" y="40"/>
                  <a:pt x="890" y="0"/>
                </a:cubicBezTo>
                <a:cubicBezTo>
                  <a:pt x="832" y="11"/>
                  <a:pt x="775" y="27"/>
                  <a:pt x="717" y="41"/>
                </a:cubicBezTo>
                <a:cubicBezTo>
                  <a:pt x="621" y="91"/>
                  <a:pt x="734" y="26"/>
                  <a:pt x="667" y="82"/>
                </a:cubicBezTo>
                <a:cubicBezTo>
                  <a:pt x="650" y="96"/>
                  <a:pt x="627" y="101"/>
                  <a:pt x="610" y="115"/>
                </a:cubicBezTo>
                <a:cubicBezTo>
                  <a:pt x="543" y="167"/>
                  <a:pt x="651" y="93"/>
                  <a:pt x="569" y="148"/>
                </a:cubicBezTo>
                <a:cubicBezTo>
                  <a:pt x="572" y="181"/>
                  <a:pt x="572" y="214"/>
                  <a:pt x="577" y="247"/>
                </a:cubicBezTo>
                <a:cubicBezTo>
                  <a:pt x="588" y="314"/>
                  <a:pt x="641" y="336"/>
                  <a:pt x="684" y="379"/>
                </a:cubicBezTo>
                <a:cubicBezTo>
                  <a:pt x="694" y="410"/>
                  <a:pt x="700" y="422"/>
                  <a:pt x="700" y="461"/>
                </a:cubicBezTo>
                <a:cubicBezTo>
                  <a:pt x="700" y="586"/>
                  <a:pt x="534" y="585"/>
                  <a:pt x="445" y="592"/>
                </a:cubicBezTo>
                <a:cubicBezTo>
                  <a:pt x="396" y="596"/>
                  <a:pt x="346" y="598"/>
                  <a:pt x="297" y="601"/>
                </a:cubicBezTo>
                <a:cubicBezTo>
                  <a:pt x="250" y="646"/>
                  <a:pt x="282" y="620"/>
                  <a:pt x="190" y="667"/>
                </a:cubicBezTo>
                <a:cubicBezTo>
                  <a:pt x="163" y="681"/>
                  <a:pt x="126" y="725"/>
                  <a:pt x="108" y="749"/>
                </a:cubicBezTo>
                <a:cubicBezTo>
                  <a:pt x="87" y="809"/>
                  <a:pt x="95" y="781"/>
                  <a:pt x="83" y="831"/>
                </a:cubicBezTo>
                <a:cubicBezTo>
                  <a:pt x="76" y="894"/>
                  <a:pt x="61" y="978"/>
                  <a:pt x="91" y="1037"/>
                </a:cubicBezTo>
                <a:cubicBezTo>
                  <a:pt x="106" y="1067"/>
                  <a:pt x="146" y="1092"/>
                  <a:pt x="174" y="1111"/>
                </a:cubicBezTo>
                <a:cubicBezTo>
                  <a:pt x="192" y="1139"/>
                  <a:pt x="199" y="1149"/>
                  <a:pt x="231" y="1160"/>
                </a:cubicBezTo>
                <a:cubicBezTo>
                  <a:pt x="261" y="1180"/>
                  <a:pt x="291" y="1191"/>
                  <a:pt x="322" y="1210"/>
                </a:cubicBezTo>
                <a:cubicBezTo>
                  <a:pt x="369" y="1280"/>
                  <a:pt x="287" y="1164"/>
                  <a:pt x="396" y="1275"/>
                </a:cubicBezTo>
                <a:cubicBezTo>
                  <a:pt x="412" y="1292"/>
                  <a:pt x="445" y="1325"/>
                  <a:pt x="445" y="1325"/>
                </a:cubicBezTo>
                <a:cubicBezTo>
                  <a:pt x="442" y="1344"/>
                  <a:pt x="443" y="1364"/>
                  <a:pt x="437" y="1382"/>
                </a:cubicBezTo>
                <a:cubicBezTo>
                  <a:pt x="429" y="1406"/>
                  <a:pt x="312" y="1431"/>
                  <a:pt x="289" y="1440"/>
                </a:cubicBezTo>
                <a:cubicBezTo>
                  <a:pt x="181" y="1482"/>
                  <a:pt x="91" y="1520"/>
                  <a:pt x="26" y="1621"/>
                </a:cubicBezTo>
                <a:cubicBezTo>
                  <a:pt x="5" y="1711"/>
                  <a:pt x="0" y="1790"/>
                  <a:pt x="26" y="1884"/>
                </a:cubicBezTo>
                <a:cubicBezTo>
                  <a:pt x="42" y="2012"/>
                  <a:pt x="68" y="2144"/>
                  <a:pt x="182" y="2222"/>
                </a:cubicBezTo>
                <a:cubicBezTo>
                  <a:pt x="203" y="2286"/>
                  <a:pt x="248" y="2306"/>
                  <a:pt x="289" y="2353"/>
                </a:cubicBezTo>
                <a:cubicBezTo>
                  <a:pt x="326" y="2395"/>
                  <a:pt x="341" y="2445"/>
                  <a:pt x="388" y="2477"/>
                </a:cubicBezTo>
                <a:cubicBezTo>
                  <a:pt x="464" y="2591"/>
                  <a:pt x="327" y="2732"/>
                  <a:pt x="223" y="2765"/>
                </a:cubicBezTo>
                <a:cubicBezTo>
                  <a:pt x="215" y="2776"/>
                  <a:pt x="207" y="2788"/>
                  <a:pt x="198" y="2798"/>
                </a:cubicBezTo>
                <a:cubicBezTo>
                  <a:pt x="191" y="2807"/>
                  <a:pt x="175" y="2811"/>
                  <a:pt x="174" y="2822"/>
                </a:cubicBezTo>
                <a:cubicBezTo>
                  <a:pt x="168" y="2906"/>
                  <a:pt x="224" y="2955"/>
                  <a:pt x="297" y="2971"/>
                </a:cubicBezTo>
                <a:cubicBezTo>
                  <a:pt x="367" y="2960"/>
                  <a:pt x="409" y="2980"/>
                  <a:pt x="454" y="2921"/>
                </a:cubicBezTo>
                <a:cubicBezTo>
                  <a:pt x="472" y="2848"/>
                  <a:pt x="469" y="2831"/>
                  <a:pt x="396" y="283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133720" y="228600"/>
          <a:ext cx="28954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"/>
                    <a:ext cx="2895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38040" y="457200"/>
            <a:ext cx="1830600" cy="4730760"/>
          </a:xfrm>
          <a:custGeom>
            <a:avLst/>
            <a:gdLst/>
            <a:ahLst/>
            <a:rect l="l" t="t" r="r" b="b"/>
            <a:pathLst>
              <a:path w="1153" h="2980">
                <a:moveTo>
                  <a:pt x="1153" y="107"/>
                </a:moveTo>
                <a:cubicBezTo>
                  <a:pt x="1064" y="82"/>
                  <a:pt x="973" y="40"/>
                  <a:pt x="890" y="0"/>
                </a:cubicBezTo>
                <a:cubicBezTo>
                  <a:pt x="832" y="11"/>
                  <a:pt x="775" y="27"/>
                  <a:pt x="717" y="41"/>
                </a:cubicBezTo>
                <a:cubicBezTo>
                  <a:pt x="621" y="91"/>
                  <a:pt x="734" y="26"/>
                  <a:pt x="667" y="82"/>
                </a:cubicBezTo>
                <a:cubicBezTo>
                  <a:pt x="650" y="96"/>
                  <a:pt x="627" y="101"/>
                  <a:pt x="610" y="115"/>
                </a:cubicBezTo>
                <a:cubicBezTo>
                  <a:pt x="543" y="167"/>
                  <a:pt x="651" y="93"/>
                  <a:pt x="569" y="148"/>
                </a:cubicBezTo>
                <a:cubicBezTo>
                  <a:pt x="572" y="181"/>
                  <a:pt x="572" y="214"/>
                  <a:pt x="577" y="247"/>
                </a:cubicBezTo>
                <a:cubicBezTo>
                  <a:pt x="588" y="314"/>
                  <a:pt x="641" y="336"/>
                  <a:pt x="684" y="379"/>
                </a:cubicBezTo>
                <a:cubicBezTo>
                  <a:pt x="694" y="410"/>
                  <a:pt x="700" y="422"/>
                  <a:pt x="700" y="461"/>
                </a:cubicBezTo>
                <a:cubicBezTo>
                  <a:pt x="700" y="586"/>
                  <a:pt x="534" y="585"/>
                  <a:pt x="445" y="592"/>
                </a:cubicBezTo>
                <a:cubicBezTo>
                  <a:pt x="396" y="596"/>
                  <a:pt x="346" y="598"/>
                  <a:pt x="297" y="601"/>
                </a:cubicBezTo>
                <a:cubicBezTo>
                  <a:pt x="250" y="646"/>
                  <a:pt x="282" y="620"/>
                  <a:pt x="190" y="667"/>
                </a:cubicBezTo>
                <a:cubicBezTo>
                  <a:pt x="163" y="681"/>
                  <a:pt x="126" y="725"/>
                  <a:pt x="108" y="749"/>
                </a:cubicBezTo>
                <a:cubicBezTo>
                  <a:pt x="87" y="809"/>
                  <a:pt x="95" y="781"/>
                  <a:pt x="83" y="831"/>
                </a:cubicBezTo>
                <a:cubicBezTo>
                  <a:pt x="76" y="894"/>
                  <a:pt x="61" y="978"/>
                  <a:pt x="91" y="1037"/>
                </a:cubicBezTo>
                <a:cubicBezTo>
                  <a:pt x="106" y="1067"/>
                  <a:pt x="146" y="1092"/>
                  <a:pt x="174" y="1111"/>
                </a:cubicBezTo>
                <a:cubicBezTo>
                  <a:pt x="192" y="1139"/>
                  <a:pt x="199" y="1149"/>
                  <a:pt x="231" y="1160"/>
                </a:cubicBezTo>
                <a:cubicBezTo>
                  <a:pt x="261" y="1180"/>
                  <a:pt x="291" y="1191"/>
                  <a:pt x="322" y="1210"/>
                </a:cubicBezTo>
                <a:cubicBezTo>
                  <a:pt x="369" y="1280"/>
                  <a:pt x="287" y="1164"/>
                  <a:pt x="396" y="1275"/>
                </a:cubicBezTo>
                <a:cubicBezTo>
                  <a:pt x="412" y="1292"/>
                  <a:pt x="445" y="1325"/>
                  <a:pt x="445" y="1325"/>
                </a:cubicBezTo>
                <a:cubicBezTo>
                  <a:pt x="442" y="1344"/>
                  <a:pt x="443" y="1364"/>
                  <a:pt x="437" y="1382"/>
                </a:cubicBezTo>
                <a:cubicBezTo>
                  <a:pt x="429" y="1406"/>
                  <a:pt x="312" y="1431"/>
                  <a:pt x="289" y="1440"/>
                </a:cubicBezTo>
                <a:cubicBezTo>
                  <a:pt x="181" y="1482"/>
                  <a:pt x="91" y="1520"/>
                  <a:pt x="26" y="1621"/>
                </a:cubicBezTo>
                <a:cubicBezTo>
                  <a:pt x="5" y="1711"/>
                  <a:pt x="0" y="1790"/>
                  <a:pt x="26" y="1884"/>
                </a:cubicBezTo>
                <a:cubicBezTo>
                  <a:pt x="42" y="2012"/>
                  <a:pt x="68" y="2144"/>
                  <a:pt x="182" y="2222"/>
                </a:cubicBezTo>
                <a:cubicBezTo>
                  <a:pt x="203" y="2286"/>
                  <a:pt x="248" y="2306"/>
                  <a:pt x="289" y="2353"/>
                </a:cubicBezTo>
                <a:cubicBezTo>
                  <a:pt x="326" y="2395"/>
                  <a:pt x="341" y="2445"/>
                  <a:pt x="388" y="2477"/>
                </a:cubicBezTo>
                <a:cubicBezTo>
                  <a:pt x="464" y="2591"/>
                  <a:pt x="327" y="2732"/>
                  <a:pt x="223" y="2765"/>
                </a:cubicBezTo>
                <a:cubicBezTo>
                  <a:pt x="215" y="2776"/>
                  <a:pt x="207" y="2788"/>
                  <a:pt x="198" y="2798"/>
                </a:cubicBezTo>
                <a:cubicBezTo>
                  <a:pt x="191" y="2807"/>
                  <a:pt x="175" y="2811"/>
                  <a:pt x="174" y="2822"/>
                </a:cubicBezTo>
                <a:cubicBezTo>
                  <a:pt x="168" y="2906"/>
                  <a:pt x="224" y="2955"/>
                  <a:pt x="297" y="2971"/>
                </a:cubicBezTo>
                <a:cubicBezTo>
                  <a:pt x="367" y="2960"/>
                  <a:pt x="409" y="2980"/>
                  <a:pt x="454" y="2921"/>
                </a:cubicBezTo>
                <a:cubicBezTo>
                  <a:pt x="472" y="2848"/>
                  <a:pt x="469" y="2831"/>
                  <a:pt x="396" y="283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477120" y="2209680"/>
            <a:ext cx="1676160" cy="161136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114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color            purp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048120" y="76320"/>
          <a:ext cx="274320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76320"/>
                    <a:ext cx="27432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443320" y="425520"/>
            <a:ext cx="6343560" cy="3119400"/>
          </a:xfrm>
          <a:custGeom>
            <a:avLst/>
            <a:gdLst/>
            <a:ahLst/>
            <a:rect l="l" t="t" r="r" b="b"/>
            <a:pathLst>
              <a:path w="3996" h="1965">
                <a:moveTo>
                  <a:pt x="513" y="56"/>
                </a:moveTo>
                <a:cubicBezTo>
                  <a:pt x="441" y="53"/>
                  <a:pt x="286" y="39"/>
                  <a:pt x="197" y="56"/>
                </a:cubicBezTo>
                <a:cubicBezTo>
                  <a:pt x="175" y="60"/>
                  <a:pt x="155" y="72"/>
                  <a:pt x="134" y="79"/>
                </a:cubicBezTo>
                <a:cubicBezTo>
                  <a:pt x="118" y="85"/>
                  <a:pt x="86" y="95"/>
                  <a:pt x="86" y="95"/>
                </a:cubicBezTo>
                <a:cubicBezTo>
                  <a:pt x="39" y="131"/>
                  <a:pt x="21" y="158"/>
                  <a:pt x="0" y="213"/>
                </a:cubicBezTo>
                <a:cubicBezTo>
                  <a:pt x="3" y="238"/>
                  <a:pt x="5" y="292"/>
                  <a:pt x="23" y="316"/>
                </a:cubicBezTo>
                <a:cubicBezTo>
                  <a:pt x="31" y="327"/>
                  <a:pt x="45" y="331"/>
                  <a:pt x="55" y="340"/>
                </a:cubicBezTo>
                <a:cubicBezTo>
                  <a:pt x="68" y="353"/>
                  <a:pt x="72" y="375"/>
                  <a:pt x="86" y="387"/>
                </a:cubicBezTo>
                <a:cubicBezTo>
                  <a:pt x="183" y="471"/>
                  <a:pt x="308" y="513"/>
                  <a:pt x="426" y="553"/>
                </a:cubicBezTo>
                <a:cubicBezTo>
                  <a:pt x="475" y="569"/>
                  <a:pt x="518" y="623"/>
                  <a:pt x="568" y="632"/>
                </a:cubicBezTo>
                <a:cubicBezTo>
                  <a:pt x="620" y="642"/>
                  <a:pt x="674" y="639"/>
                  <a:pt x="726" y="647"/>
                </a:cubicBezTo>
                <a:cubicBezTo>
                  <a:pt x="879" y="671"/>
                  <a:pt x="746" y="653"/>
                  <a:pt x="923" y="695"/>
                </a:cubicBezTo>
                <a:cubicBezTo>
                  <a:pt x="1034" y="721"/>
                  <a:pt x="1129" y="731"/>
                  <a:pt x="1238" y="750"/>
                </a:cubicBezTo>
                <a:cubicBezTo>
                  <a:pt x="1374" y="730"/>
                  <a:pt x="1417" y="699"/>
                  <a:pt x="1538" y="655"/>
                </a:cubicBezTo>
                <a:cubicBezTo>
                  <a:pt x="1678" y="604"/>
                  <a:pt x="1819" y="554"/>
                  <a:pt x="1964" y="521"/>
                </a:cubicBezTo>
                <a:cubicBezTo>
                  <a:pt x="1983" y="510"/>
                  <a:pt x="2000" y="498"/>
                  <a:pt x="2020" y="489"/>
                </a:cubicBezTo>
                <a:cubicBezTo>
                  <a:pt x="2035" y="482"/>
                  <a:pt x="2054" y="483"/>
                  <a:pt x="2067" y="474"/>
                </a:cubicBezTo>
                <a:cubicBezTo>
                  <a:pt x="2077" y="467"/>
                  <a:pt x="2125" y="394"/>
                  <a:pt x="2130" y="387"/>
                </a:cubicBezTo>
                <a:cubicBezTo>
                  <a:pt x="2172" y="325"/>
                  <a:pt x="2207" y="238"/>
                  <a:pt x="2272" y="198"/>
                </a:cubicBezTo>
                <a:cubicBezTo>
                  <a:pt x="2327" y="116"/>
                  <a:pt x="2407" y="83"/>
                  <a:pt x="2493" y="40"/>
                </a:cubicBezTo>
                <a:cubicBezTo>
                  <a:pt x="2545" y="14"/>
                  <a:pt x="2513" y="27"/>
                  <a:pt x="2588" y="8"/>
                </a:cubicBezTo>
                <a:cubicBezTo>
                  <a:pt x="2598" y="5"/>
                  <a:pt x="2619" y="0"/>
                  <a:pt x="2619" y="0"/>
                </a:cubicBezTo>
                <a:cubicBezTo>
                  <a:pt x="2682" y="3"/>
                  <a:pt x="2746" y="0"/>
                  <a:pt x="2809" y="8"/>
                </a:cubicBezTo>
                <a:cubicBezTo>
                  <a:pt x="2844" y="13"/>
                  <a:pt x="2876" y="34"/>
                  <a:pt x="2911" y="40"/>
                </a:cubicBezTo>
                <a:cubicBezTo>
                  <a:pt x="2927" y="48"/>
                  <a:pt x="2944" y="54"/>
                  <a:pt x="2959" y="63"/>
                </a:cubicBezTo>
                <a:cubicBezTo>
                  <a:pt x="2986" y="78"/>
                  <a:pt x="3010" y="98"/>
                  <a:pt x="3037" y="111"/>
                </a:cubicBezTo>
                <a:cubicBezTo>
                  <a:pt x="3082" y="133"/>
                  <a:pt x="3139" y="152"/>
                  <a:pt x="3179" y="182"/>
                </a:cubicBezTo>
                <a:cubicBezTo>
                  <a:pt x="3224" y="215"/>
                  <a:pt x="3253" y="265"/>
                  <a:pt x="3298" y="300"/>
                </a:cubicBezTo>
                <a:cubicBezTo>
                  <a:pt x="3357" y="399"/>
                  <a:pt x="3418" y="495"/>
                  <a:pt x="3464" y="600"/>
                </a:cubicBezTo>
                <a:cubicBezTo>
                  <a:pt x="3511" y="708"/>
                  <a:pt x="3542" y="827"/>
                  <a:pt x="3613" y="923"/>
                </a:cubicBezTo>
                <a:cubicBezTo>
                  <a:pt x="3627" y="978"/>
                  <a:pt x="3639" y="1034"/>
                  <a:pt x="3653" y="1089"/>
                </a:cubicBezTo>
                <a:cubicBezTo>
                  <a:pt x="3656" y="1123"/>
                  <a:pt x="3660" y="1158"/>
                  <a:pt x="3661" y="1192"/>
                </a:cubicBezTo>
                <a:cubicBezTo>
                  <a:pt x="3662" y="1244"/>
                  <a:pt x="3575" y="1859"/>
                  <a:pt x="3787" y="1965"/>
                </a:cubicBezTo>
                <a:cubicBezTo>
                  <a:pt x="3840" y="1956"/>
                  <a:pt x="3854" y="1935"/>
                  <a:pt x="3905" y="1926"/>
                </a:cubicBezTo>
                <a:cubicBezTo>
                  <a:pt x="3923" y="1899"/>
                  <a:pt x="3969" y="1855"/>
                  <a:pt x="3969" y="1855"/>
                </a:cubicBezTo>
                <a:cubicBezTo>
                  <a:pt x="3977" y="1826"/>
                  <a:pt x="3992" y="1768"/>
                  <a:pt x="3992" y="1768"/>
                </a:cubicBezTo>
                <a:cubicBezTo>
                  <a:pt x="3989" y="1686"/>
                  <a:pt x="3996" y="1604"/>
                  <a:pt x="3984" y="1523"/>
                </a:cubicBezTo>
                <a:cubicBezTo>
                  <a:pt x="3981" y="1501"/>
                  <a:pt x="3866" y="1457"/>
                  <a:pt x="3850" y="1452"/>
                </a:cubicBezTo>
                <a:cubicBezTo>
                  <a:pt x="3829" y="1445"/>
                  <a:pt x="3787" y="1428"/>
                  <a:pt x="3787" y="1428"/>
                </a:cubicBezTo>
              </a:path>
            </a:pathLst>
          </a:custGeom>
          <a:noFill/>
          <a:ln w="57240">
            <a:solidFill>
              <a:srgbClr val="8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705720" y="2552760"/>
            <a:ext cx="148572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048120" y="76320"/>
          <a:ext cx="2743200" cy="98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76320"/>
                    <a:ext cx="27432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43320" y="425520"/>
            <a:ext cx="6343560" cy="3119400"/>
          </a:xfrm>
          <a:custGeom>
            <a:avLst/>
            <a:gdLst/>
            <a:ahLst/>
            <a:rect l="l" t="t" r="r" b="b"/>
            <a:pathLst>
              <a:path w="3996" h="1965">
                <a:moveTo>
                  <a:pt x="513" y="56"/>
                </a:moveTo>
                <a:cubicBezTo>
                  <a:pt x="441" y="53"/>
                  <a:pt x="286" y="39"/>
                  <a:pt x="197" y="56"/>
                </a:cubicBezTo>
                <a:cubicBezTo>
                  <a:pt x="175" y="60"/>
                  <a:pt x="155" y="72"/>
                  <a:pt x="134" y="79"/>
                </a:cubicBezTo>
                <a:cubicBezTo>
                  <a:pt x="118" y="85"/>
                  <a:pt x="86" y="95"/>
                  <a:pt x="86" y="95"/>
                </a:cubicBezTo>
                <a:cubicBezTo>
                  <a:pt x="39" y="131"/>
                  <a:pt x="21" y="158"/>
                  <a:pt x="0" y="213"/>
                </a:cubicBezTo>
                <a:cubicBezTo>
                  <a:pt x="3" y="238"/>
                  <a:pt x="5" y="292"/>
                  <a:pt x="23" y="316"/>
                </a:cubicBezTo>
                <a:cubicBezTo>
                  <a:pt x="31" y="327"/>
                  <a:pt x="45" y="331"/>
                  <a:pt x="55" y="340"/>
                </a:cubicBezTo>
                <a:cubicBezTo>
                  <a:pt x="68" y="353"/>
                  <a:pt x="72" y="375"/>
                  <a:pt x="86" y="387"/>
                </a:cubicBezTo>
                <a:cubicBezTo>
                  <a:pt x="183" y="471"/>
                  <a:pt x="308" y="513"/>
                  <a:pt x="426" y="553"/>
                </a:cubicBezTo>
                <a:cubicBezTo>
                  <a:pt x="475" y="569"/>
                  <a:pt x="518" y="623"/>
                  <a:pt x="568" y="632"/>
                </a:cubicBezTo>
                <a:cubicBezTo>
                  <a:pt x="620" y="642"/>
                  <a:pt x="674" y="639"/>
                  <a:pt x="726" y="647"/>
                </a:cubicBezTo>
                <a:cubicBezTo>
                  <a:pt x="879" y="671"/>
                  <a:pt x="746" y="653"/>
                  <a:pt x="923" y="695"/>
                </a:cubicBezTo>
                <a:cubicBezTo>
                  <a:pt x="1034" y="721"/>
                  <a:pt x="1129" y="731"/>
                  <a:pt x="1238" y="750"/>
                </a:cubicBezTo>
                <a:cubicBezTo>
                  <a:pt x="1374" y="730"/>
                  <a:pt x="1417" y="699"/>
                  <a:pt x="1538" y="655"/>
                </a:cubicBezTo>
                <a:cubicBezTo>
                  <a:pt x="1678" y="604"/>
                  <a:pt x="1819" y="554"/>
                  <a:pt x="1964" y="521"/>
                </a:cubicBezTo>
                <a:cubicBezTo>
                  <a:pt x="1983" y="510"/>
                  <a:pt x="2000" y="498"/>
                  <a:pt x="2020" y="489"/>
                </a:cubicBezTo>
                <a:cubicBezTo>
                  <a:pt x="2035" y="482"/>
                  <a:pt x="2054" y="483"/>
                  <a:pt x="2067" y="474"/>
                </a:cubicBezTo>
                <a:cubicBezTo>
                  <a:pt x="2077" y="467"/>
                  <a:pt x="2125" y="394"/>
                  <a:pt x="2130" y="387"/>
                </a:cubicBezTo>
                <a:cubicBezTo>
                  <a:pt x="2172" y="325"/>
                  <a:pt x="2207" y="238"/>
                  <a:pt x="2272" y="198"/>
                </a:cubicBezTo>
                <a:cubicBezTo>
                  <a:pt x="2327" y="116"/>
                  <a:pt x="2407" y="83"/>
                  <a:pt x="2493" y="40"/>
                </a:cubicBezTo>
                <a:cubicBezTo>
                  <a:pt x="2545" y="14"/>
                  <a:pt x="2513" y="27"/>
                  <a:pt x="2588" y="8"/>
                </a:cubicBezTo>
                <a:cubicBezTo>
                  <a:pt x="2598" y="5"/>
                  <a:pt x="2619" y="0"/>
                  <a:pt x="2619" y="0"/>
                </a:cubicBezTo>
                <a:cubicBezTo>
                  <a:pt x="2682" y="3"/>
                  <a:pt x="2746" y="0"/>
                  <a:pt x="2809" y="8"/>
                </a:cubicBezTo>
                <a:cubicBezTo>
                  <a:pt x="2844" y="13"/>
                  <a:pt x="2876" y="34"/>
                  <a:pt x="2911" y="40"/>
                </a:cubicBezTo>
                <a:cubicBezTo>
                  <a:pt x="2927" y="48"/>
                  <a:pt x="2944" y="54"/>
                  <a:pt x="2959" y="63"/>
                </a:cubicBezTo>
                <a:cubicBezTo>
                  <a:pt x="2986" y="78"/>
                  <a:pt x="3010" y="98"/>
                  <a:pt x="3037" y="111"/>
                </a:cubicBezTo>
                <a:cubicBezTo>
                  <a:pt x="3082" y="133"/>
                  <a:pt x="3139" y="152"/>
                  <a:pt x="3179" y="182"/>
                </a:cubicBezTo>
                <a:cubicBezTo>
                  <a:pt x="3224" y="215"/>
                  <a:pt x="3253" y="265"/>
                  <a:pt x="3298" y="300"/>
                </a:cubicBezTo>
                <a:cubicBezTo>
                  <a:pt x="3357" y="399"/>
                  <a:pt x="3418" y="495"/>
                  <a:pt x="3464" y="600"/>
                </a:cubicBezTo>
                <a:cubicBezTo>
                  <a:pt x="3511" y="708"/>
                  <a:pt x="3542" y="827"/>
                  <a:pt x="3613" y="923"/>
                </a:cubicBezTo>
                <a:cubicBezTo>
                  <a:pt x="3627" y="978"/>
                  <a:pt x="3639" y="1034"/>
                  <a:pt x="3653" y="1089"/>
                </a:cubicBezTo>
                <a:cubicBezTo>
                  <a:pt x="3656" y="1123"/>
                  <a:pt x="3660" y="1158"/>
                  <a:pt x="3661" y="1192"/>
                </a:cubicBezTo>
                <a:cubicBezTo>
                  <a:pt x="3662" y="1244"/>
                  <a:pt x="3575" y="1859"/>
                  <a:pt x="3787" y="1965"/>
                </a:cubicBezTo>
                <a:cubicBezTo>
                  <a:pt x="3840" y="1956"/>
                  <a:pt x="3854" y="1935"/>
                  <a:pt x="3905" y="1926"/>
                </a:cubicBezTo>
                <a:cubicBezTo>
                  <a:pt x="3923" y="1899"/>
                  <a:pt x="3969" y="1855"/>
                  <a:pt x="3969" y="1855"/>
                </a:cubicBezTo>
                <a:cubicBezTo>
                  <a:pt x="3977" y="1826"/>
                  <a:pt x="3992" y="1768"/>
                  <a:pt x="3992" y="1768"/>
                </a:cubicBezTo>
                <a:cubicBezTo>
                  <a:pt x="3989" y="1686"/>
                  <a:pt x="3996" y="1604"/>
                  <a:pt x="3984" y="1523"/>
                </a:cubicBezTo>
                <a:cubicBezTo>
                  <a:pt x="3981" y="1501"/>
                  <a:pt x="3866" y="1457"/>
                  <a:pt x="3850" y="1452"/>
                </a:cubicBezTo>
                <a:cubicBezTo>
                  <a:pt x="3829" y="1445"/>
                  <a:pt x="3787" y="1428"/>
                  <a:pt x="3787" y="1428"/>
                </a:cubicBezTo>
              </a:path>
            </a:pathLst>
          </a:custGeom>
          <a:noFill/>
          <a:ln w="57240">
            <a:solidFill>
              <a:srgbClr val="8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048120" y="76320"/>
          <a:ext cx="274320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76320"/>
                    <a:ext cx="27432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443320" y="425520"/>
            <a:ext cx="6343560" cy="3119400"/>
          </a:xfrm>
          <a:custGeom>
            <a:avLst/>
            <a:gdLst/>
            <a:ahLst/>
            <a:rect l="l" t="t" r="r" b="b"/>
            <a:pathLst>
              <a:path w="3996" h="1965">
                <a:moveTo>
                  <a:pt x="513" y="56"/>
                </a:moveTo>
                <a:cubicBezTo>
                  <a:pt x="441" y="53"/>
                  <a:pt x="286" y="39"/>
                  <a:pt x="197" y="56"/>
                </a:cubicBezTo>
                <a:cubicBezTo>
                  <a:pt x="175" y="60"/>
                  <a:pt x="155" y="72"/>
                  <a:pt x="134" y="79"/>
                </a:cubicBezTo>
                <a:cubicBezTo>
                  <a:pt x="118" y="85"/>
                  <a:pt x="86" y="95"/>
                  <a:pt x="86" y="95"/>
                </a:cubicBezTo>
                <a:cubicBezTo>
                  <a:pt x="39" y="131"/>
                  <a:pt x="21" y="158"/>
                  <a:pt x="0" y="213"/>
                </a:cubicBezTo>
                <a:cubicBezTo>
                  <a:pt x="3" y="238"/>
                  <a:pt x="5" y="292"/>
                  <a:pt x="23" y="316"/>
                </a:cubicBezTo>
                <a:cubicBezTo>
                  <a:pt x="31" y="327"/>
                  <a:pt x="45" y="331"/>
                  <a:pt x="55" y="340"/>
                </a:cubicBezTo>
                <a:cubicBezTo>
                  <a:pt x="68" y="353"/>
                  <a:pt x="72" y="375"/>
                  <a:pt x="86" y="387"/>
                </a:cubicBezTo>
                <a:cubicBezTo>
                  <a:pt x="183" y="471"/>
                  <a:pt x="308" y="513"/>
                  <a:pt x="426" y="553"/>
                </a:cubicBezTo>
                <a:cubicBezTo>
                  <a:pt x="475" y="569"/>
                  <a:pt x="518" y="623"/>
                  <a:pt x="568" y="632"/>
                </a:cubicBezTo>
                <a:cubicBezTo>
                  <a:pt x="620" y="642"/>
                  <a:pt x="674" y="639"/>
                  <a:pt x="726" y="647"/>
                </a:cubicBezTo>
                <a:cubicBezTo>
                  <a:pt x="879" y="671"/>
                  <a:pt x="746" y="653"/>
                  <a:pt x="923" y="695"/>
                </a:cubicBezTo>
                <a:cubicBezTo>
                  <a:pt x="1034" y="721"/>
                  <a:pt x="1129" y="731"/>
                  <a:pt x="1238" y="750"/>
                </a:cubicBezTo>
                <a:cubicBezTo>
                  <a:pt x="1374" y="730"/>
                  <a:pt x="1417" y="699"/>
                  <a:pt x="1538" y="655"/>
                </a:cubicBezTo>
                <a:cubicBezTo>
                  <a:pt x="1678" y="604"/>
                  <a:pt x="1819" y="554"/>
                  <a:pt x="1964" y="521"/>
                </a:cubicBezTo>
                <a:cubicBezTo>
                  <a:pt x="1983" y="510"/>
                  <a:pt x="2000" y="498"/>
                  <a:pt x="2020" y="489"/>
                </a:cubicBezTo>
                <a:cubicBezTo>
                  <a:pt x="2035" y="482"/>
                  <a:pt x="2054" y="483"/>
                  <a:pt x="2067" y="474"/>
                </a:cubicBezTo>
                <a:cubicBezTo>
                  <a:pt x="2077" y="467"/>
                  <a:pt x="2125" y="394"/>
                  <a:pt x="2130" y="387"/>
                </a:cubicBezTo>
                <a:cubicBezTo>
                  <a:pt x="2172" y="325"/>
                  <a:pt x="2207" y="238"/>
                  <a:pt x="2272" y="198"/>
                </a:cubicBezTo>
                <a:cubicBezTo>
                  <a:pt x="2327" y="116"/>
                  <a:pt x="2407" y="83"/>
                  <a:pt x="2493" y="40"/>
                </a:cubicBezTo>
                <a:cubicBezTo>
                  <a:pt x="2545" y="14"/>
                  <a:pt x="2513" y="27"/>
                  <a:pt x="2588" y="8"/>
                </a:cubicBezTo>
                <a:cubicBezTo>
                  <a:pt x="2598" y="5"/>
                  <a:pt x="2619" y="0"/>
                  <a:pt x="2619" y="0"/>
                </a:cubicBezTo>
                <a:cubicBezTo>
                  <a:pt x="2682" y="3"/>
                  <a:pt x="2746" y="0"/>
                  <a:pt x="2809" y="8"/>
                </a:cubicBezTo>
                <a:cubicBezTo>
                  <a:pt x="2844" y="13"/>
                  <a:pt x="2876" y="34"/>
                  <a:pt x="2911" y="40"/>
                </a:cubicBezTo>
                <a:cubicBezTo>
                  <a:pt x="2927" y="48"/>
                  <a:pt x="2944" y="54"/>
                  <a:pt x="2959" y="63"/>
                </a:cubicBezTo>
                <a:cubicBezTo>
                  <a:pt x="2986" y="78"/>
                  <a:pt x="3010" y="98"/>
                  <a:pt x="3037" y="111"/>
                </a:cubicBezTo>
                <a:cubicBezTo>
                  <a:pt x="3082" y="133"/>
                  <a:pt x="3139" y="152"/>
                  <a:pt x="3179" y="182"/>
                </a:cubicBezTo>
                <a:cubicBezTo>
                  <a:pt x="3224" y="215"/>
                  <a:pt x="3253" y="265"/>
                  <a:pt x="3298" y="300"/>
                </a:cubicBezTo>
                <a:cubicBezTo>
                  <a:pt x="3357" y="399"/>
                  <a:pt x="3418" y="495"/>
                  <a:pt x="3464" y="600"/>
                </a:cubicBezTo>
                <a:cubicBezTo>
                  <a:pt x="3511" y="708"/>
                  <a:pt x="3542" y="827"/>
                  <a:pt x="3613" y="923"/>
                </a:cubicBezTo>
                <a:cubicBezTo>
                  <a:pt x="3627" y="978"/>
                  <a:pt x="3639" y="1034"/>
                  <a:pt x="3653" y="1089"/>
                </a:cubicBezTo>
                <a:cubicBezTo>
                  <a:pt x="3656" y="1123"/>
                  <a:pt x="3660" y="1158"/>
                  <a:pt x="3661" y="1192"/>
                </a:cubicBezTo>
                <a:cubicBezTo>
                  <a:pt x="3662" y="1244"/>
                  <a:pt x="3575" y="1859"/>
                  <a:pt x="3787" y="1965"/>
                </a:cubicBezTo>
                <a:cubicBezTo>
                  <a:pt x="3840" y="1956"/>
                  <a:pt x="3854" y="1935"/>
                  <a:pt x="3905" y="1926"/>
                </a:cubicBezTo>
                <a:cubicBezTo>
                  <a:pt x="3923" y="1899"/>
                  <a:pt x="3969" y="1855"/>
                  <a:pt x="3969" y="1855"/>
                </a:cubicBezTo>
                <a:cubicBezTo>
                  <a:pt x="3977" y="1826"/>
                  <a:pt x="3992" y="1768"/>
                  <a:pt x="3992" y="1768"/>
                </a:cubicBezTo>
                <a:cubicBezTo>
                  <a:pt x="3989" y="1686"/>
                  <a:pt x="3996" y="1604"/>
                  <a:pt x="3984" y="1523"/>
                </a:cubicBezTo>
                <a:cubicBezTo>
                  <a:pt x="3981" y="1501"/>
                  <a:pt x="3866" y="1457"/>
                  <a:pt x="3850" y="1452"/>
                </a:cubicBezTo>
                <a:cubicBezTo>
                  <a:pt x="3829" y="1445"/>
                  <a:pt x="3787" y="1428"/>
                  <a:pt x="3787" y="1428"/>
                </a:cubicBezTo>
              </a:path>
            </a:pathLst>
          </a:custGeom>
          <a:noFill/>
          <a:ln w="57240">
            <a:solidFill>
              <a:srgbClr val="8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066680" y="304920"/>
          <a:ext cx="6961320" cy="623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92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848720" y="58672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90720" y="228600"/>
          <a:ext cx="69609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69609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0"/>
          <a:ext cx="289584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0"/>
                    <a:ext cx="28958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85960" y="299880"/>
            <a:ext cx="2300040" cy="1171800"/>
          </a:xfrm>
          <a:custGeom>
            <a:avLst/>
            <a:gdLst/>
            <a:ahLst/>
            <a:rect l="l" t="t" r="r" b="b"/>
            <a:pathLst>
              <a:path w="1449" h="738">
                <a:moveTo>
                  <a:pt x="1449" y="117"/>
                </a:moveTo>
                <a:cubicBezTo>
                  <a:pt x="1370" y="91"/>
                  <a:pt x="1412" y="107"/>
                  <a:pt x="1323" y="63"/>
                </a:cubicBezTo>
                <a:cubicBezTo>
                  <a:pt x="1308" y="55"/>
                  <a:pt x="1301" y="36"/>
                  <a:pt x="1287" y="27"/>
                </a:cubicBezTo>
                <a:cubicBezTo>
                  <a:pt x="1276" y="20"/>
                  <a:pt x="1232" y="6"/>
                  <a:pt x="1215" y="0"/>
                </a:cubicBezTo>
                <a:cubicBezTo>
                  <a:pt x="1112" y="10"/>
                  <a:pt x="1078" y="5"/>
                  <a:pt x="1044" y="108"/>
                </a:cubicBezTo>
                <a:cubicBezTo>
                  <a:pt x="1050" y="153"/>
                  <a:pt x="1057" y="192"/>
                  <a:pt x="1071" y="234"/>
                </a:cubicBezTo>
                <a:cubicBezTo>
                  <a:pt x="1058" y="312"/>
                  <a:pt x="1025" y="353"/>
                  <a:pt x="945" y="369"/>
                </a:cubicBezTo>
                <a:cubicBezTo>
                  <a:pt x="918" y="366"/>
                  <a:pt x="890" y="367"/>
                  <a:pt x="864" y="360"/>
                </a:cubicBezTo>
                <a:cubicBezTo>
                  <a:pt x="824" y="350"/>
                  <a:pt x="803" y="303"/>
                  <a:pt x="765" y="288"/>
                </a:cubicBezTo>
                <a:cubicBezTo>
                  <a:pt x="701" y="262"/>
                  <a:pt x="643" y="220"/>
                  <a:pt x="576" y="207"/>
                </a:cubicBezTo>
                <a:cubicBezTo>
                  <a:pt x="546" y="210"/>
                  <a:pt x="515" y="209"/>
                  <a:pt x="486" y="216"/>
                </a:cubicBezTo>
                <a:cubicBezTo>
                  <a:pt x="453" y="224"/>
                  <a:pt x="433" y="265"/>
                  <a:pt x="414" y="288"/>
                </a:cubicBezTo>
                <a:cubicBezTo>
                  <a:pt x="384" y="324"/>
                  <a:pt x="340" y="352"/>
                  <a:pt x="297" y="369"/>
                </a:cubicBezTo>
                <a:cubicBezTo>
                  <a:pt x="262" y="383"/>
                  <a:pt x="225" y="393"/>
                  <a:pt x="189" y="405"/>
                </a:cubicBezTo>
                <a:cubicBezTo>
                  <a:pt x="171" y="411"/>
                  <a:pt x="135" y="423"/>
                  <a:pt x="135" y="423"/>
                </a:cubicBezTo>
                <a:cubicBezTo>
                  <a:pt x="109" y="463"/>
                  <a:pt x="80" y="500"/>
                  <a:pt x="54" y="540"/>
                </a:cubicBezTo>
                <a:cubicBezTo>
                  <a:pt x="43" y="557"/>
                  <a:pt x="38" y="577"/>
                  <a:pt x="27" y="594"/>
                </a:cubicBezTo>
                <a:cubicBezTo>
                  <a:pt x="16" y="639"/>
                  <a:pt x="0" y="692"/>
                  <a:pt x="0" y="73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38080" y="30492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124080" y="0"/>
          <a:ext cx="289584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0"/>
                    <a:ext cx="28958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885960" y="299880"/>
            <a:ext cx="2300040" cy="1171800"/>
          </a:xfrm>
          <a:custGeom>
            <a:avLst/>
            <a:gdLst/>
            <a:ahLst/>
            <a:rect l="l" t="t" r="r" b="b"/>
            <a:pathLst>
              <a:path w="1449" h="738">
                <a:moveTo>
                  <a:pt x="1449" y="117"/>
                </a:moveTo>
                <a:cubicBezTo>
                  <a:pt x="1370" y="91"/>
                  <a:pt x="1412" y="107"/>
                  <a:pt x="1323" y="63"/>
                </a:cubicBezTo>
                <a:cubicBezTo>
                  <a:pt x="1308" y="55"/>
                  <a:pt x="1301" y="36"/>
                  <a:pt x="1287" y="27"/>
                </a:cubicBezTo>
                <a:cubicBezTo>
                  <a:pt x="1276" y="20"/>
                  <a:pt x="1232" y="6"/>
                  <a:pt x="1215" y="0"/>
                </a:cubicBezTo>
                <a:cubicBezTo>
                  <a:pt x="1112" y="10"/>
                  <a:pt x="1078" y="5"/>
                  <a:pt x="1044" y="108"/>
                </a:cubicBezTo>
                <a:cubicBezTo>
                  <a:pt x="1050" y="153"/>
                  <a:pt x="1057" y="192"/>
                  <a:pt x="1071" y="234"/>
                </a:cubicBezTo>
                <a:cubicBezTo>
                  <a:pt x="1058" y="312"/>
                  <a:pt x="1025" y="353"/>
                  <a:pt x="945" y="369"/>
                </a:cubicBezTo>
                <a:cubicBezTo>
                  <a:pt x="918" y="366"/>
                  <a:pt x="890" y="367"/>
                  <a:pt x="864" y="360"/>
                </a:cubicBezTo>
                <a:cubicBezTo>
                  <a:pt x="824" y="350"/>
                  <a:pt x="803" y="303"/>
                  <a:pt x="765" y="288"/>
                </a:cubicBezTo>
                <a:cubicBezTo>
                  <a:pt x="701" y="262"/>
                  <a:pt x="643" y="220"/>
                  <a:pt x="576" y="207"/>
                </a:cubicBezTo>
                <a:cubicBezTo>
                  <a:pt x="546" y="210"/>
                  <a:pt x="515" y="209"/>
                  <a:pt x="486" y="216"/>
                </a:cubicBezTo>
                <a:cubicBezTo>
                  <a:pt x="453" y="224"/>
                  <a:pt x="433" y="265"/>
                  <a:pt x="414" y="288"/>
                </a:cubicBezTo>
                <a:cubicBezTo>
                  <a:pt x="384" y="324"/>
                  <a:pt x="340" y="352"/>
                  <a:pt x="297" y="369"/>
                </a:cubicBezTo>
                <a:cubicBezTo>
                  <a:pt x="262" y="383"/>
                  <a:pt x="225" y="393"/>
                  <a:pt x="189" y="405"/>
                </a:cubicBezTo>
                <a:cubicBezTo>
                  <a:pt x="171" y="411"/>
                  <a:pt x="135" y="423"/>
                  <a:pt x="135" y="423"/>
                </a:cubicBezTo>
                <a:cubicBezTo>
                  <a:pt x="109" y="463"/>
                  <a:pt x="80" y="500"/>
                  <a:pt x="54" y="540"/>
                </a:cubicBezTo>
                <a:cubicBezTo>
                  <a:pt x="43" y="557"/>
                  <a:pt x="38" y="577"/>
                  <a:pt x="27" y="594"/>
                </a:cubicBezTo>
                <a:cubicBezTo>
                  <a:pt x="16" y="639"/>
                  <a:pt x="0" y="692"/>
                  <a:pt x="0" y="73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3080" y="1981080"/>
            <a:ext cx="198144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            color            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76320"/>
          <a:ext cx="3200400" cy="12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76320"/>
                    <a:ext cx="320040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43080" y="542880"/>
            <a:ext cx="2500200" cy="3314880"/>
          </a:xfrm>
          <a:custGeom>
            <a:avLst/>
            <a:gdLst/>
            <a:ahLst/>
            <a:rect l="l" t="t" r="r" b="b"/>
            <a:pathLst>
              <a:path w="1575" h="2088">
                <a:moveTo>
                  <a:pt x="1575" y="108"/>
                </a:moveTo>
                <a:cubicBezTo>
                  <a:pt x="1490" y="91"/>
                  <a:pt x="1407" y="77"/>
                  <a:pt x="1323" y="54"/>
                </a:cubicBezTo>
                <a:cubicBezTo>
                  <a:pt x="1280" y="22"/>
                  <a:pt x="1238" y="20"/>
                  <a:pt x="1188" y="0"/>
                </a:cubicBezTo>
                <a:cubicBezTo>
                  <a:pt x="1074" y="19"/>
                  <a:pt x="959" y="40"/>
                  <a:pt x="846" y="63"/>
                </a:cubicBezTo>
                <a:cubicBezTo>
                  <a:pt x="775" y="77"/>
                  <a:pt x="701" y="87"/>
                  <a:pt x="630" y="99"/>
                </a:cubicBezTo>
                <a:cubicBezTo>
                  <a:pt x="547" y="113"/>
                  <a:pt x="400" y="212"/>
                  <a:pt x="342" y="270"/>
                </a:cubicBezTo>
                <a:cubicBezTo>
                  <a:pt x="319" y="338"/>
                  <a:pt x="350" y="254"/>
                  <a:pt x="315" y="324"/>
                </a:cubicBezTo>
                <a:cubicBezTo>
                  <a:pt x="298" y="357"/>
                  <a:pt x="300" y="397"/>
                  <a:pt x="288" y="432"/>
                </a:cubicBezTo>
                <a:cubicBezTo>
                  <a:pt x="298" y="543"/>
                  <a:pt x="311" y="576"/>
                  <a:pt x="351" y="675"/>
                </a:cubicBezTo>
                <a:cubicBezTo>
                  <a:pt x="358" y="693"/>
                  <a:pt x="363" y="711"/>
                  <a:pt x="369" y="729"/>
                </a:cubicBezTo>
                <a:cubicBezTo>
                  <a:pt x="372" y="738"/>
                  <a:pt x="378" y="756"/>
                  <a:pt x="378" y="756"/>
                </a:cubicBezTo>
                <a:cubicBezTo>
                  <a:pt x="374" y="787"/>
                  <a:pt x="350" y="910"/>
                  <a:pt x="315" y="927"/>
                </a:cubicBezTo>
                <a:cubicBezTo>
                  <a:pt x="277" y="946"/>
                  <a:pt x="191" y="942"/>
                  <a:pt x="144" y="954"/>
                </a:cubicBezTo>
                <a:cubicBezTo>
                  <a:pt x="111" y="998"/>
                  <a:pt x="82" y="1042"/>
                  <a:pt x="54" y="1089"/>
                </a:cubicBezTo>
                <a:cubicBezTo>
                  <a:pt x="37" y="1157"/>
                  <a:pt x="0" y="1300"/>
                  <a:pt x="108" y="1314"/>
                </a:cubicBezTo>
                <a:cubicBezTo>
                  <a:pt x="165" y="1321"/>
                  <a:pt x="222" y="1320"/>
                  <a:pt x="279" y="1323"/>
                </a:cubicBezTo>
                <a:cubicBezTo>
                  <a:pt x="323" y="1345"/>
                  <a:pt x="329" y="1360"/>
                  <a:pt x="351" y="1404"/>
                </a:cubicBezTo>
                <a:cubicBezTo>
                  <a:pt x="326" y="1479"/>
                  <a:pt x="344" y="1442"/>
                  <a:pt x="297" y="1512"/>
                </a:cubicBezTo>
                <a:cubicBezTo>
                  <a:pt x="286" y="1529"/>
                  <a:pt x="172" y="1545"/>
                  <a:pt x="153" y="1548"/>
                </a:cubicBezTo>
                <a:cubicBezTo>
                  <a:pt x="119" y="1571"/>
                  <a:pt x="118" y="1592"/>
                  <a:pt x="99" y="1629"/>
                </a:cubicBezTo>
                <a:cubicBezTo>
                  <a:pt x="94" y="1681"/>
                  <a:pt x="59" y="1805"/>
                  <a:pt x="126" y="1827"/>
                </a:cubicBezTo>
                <a:cubicBezTo>
                  <a:pt x="151" y="1847"/>
                  <a:pt x="173" y="1870"/>
                  <a:pt x="198" y="1890"/>
                </a:cubicBezTo>
                <a:cubicBezTo>
                  <a:pt x="215" y="1903"/>
                  <a:pt x="252" y="1926"/>
                  <a:pt x="252" y="1926"/>
                </a:cubicBezTo>
                <a:cubicBezTo>
                  <a:pt x="245" y="1992"/>
                  <a:pt x="246" y="2040"/>
                  <a:pt x="198" y="20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4114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                 I                  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19840" y="2400480"/>
            <a:ext cx="1486080" cy="14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43200" y="76320"/>
          <a:ext cx="3200400" cy="12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76320"/>
                    <a:ext cx="320040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43080" y="542880"/>
            <a:ext cx="2500200" cy="3314880"/>
          </a:xfrm>
          <a:custGeom>
            <a:avLst/>
            <a:gdLst/>
            <a:ahLst/>
            <a:rect l="l" t="t" r="r" b="b"/>
            <a:pathLst>
              <a:path w="1575" h="2088">
                <a:moveTo>
                  <a:pt x="1575" y="108"/>
                </a:moveTo>
                <a:cubicBezTo>
                  <a:pt x="1490" y="91"/>
                  <a:pt x="1407" y="77"/>
                  <a:pt x="1323" y="54"/>
                </a:cubicBezTo>
                <a:cubicBezTo>
                  <a:pt x="1280" y="22"/>
                  <a:pt x="1238" y="20"/>
                  <a:pt x="1188" y="0"/>
                </a:cubicBezTo>
                <a:cubicBezTo>
                  <a:pt x="1074" y="19"/>
                  <a:pt x="959" y="40"/>
                  <a:pt x="846" y="63"/>
                </a:cubicBezTo>
                <a:cubicBezTo>
                  <a:pt x="775" y="77"/>
                  <a:pt x="701" y="87"/>
                  <a:pt x="630" y="99"/>
                </a:cubicBezTo>
                <a:cubicBezTo>
                  <a:pt x="547" y="113"/>
                  <a:pt x="400" y="212"/>
                  <a:pt x="342" y="270"/>
                </a:cubicBezTo>
                <a:cubicBezTo>
                  <a:pt x="319" y="338"/>
                  <a:pt x="350" y="254"/>
                  <a:pt x="315" y="324"/>
                </a:cubicBezTo>
                <a:cubicBezTo>
                  <a:pt x="298" y="357"/>
                  <a:pt x="300" y="397"/>
                  <a:pt x="288" y="432"/>
                </a:cubicBezTo>
                <a:cubicBezTo>
                  <a:pt x="298" y="543"/>
                  <a:pt x="311" y="576"/>
                  <a:pt x="351" y="675"/>
                </a:cubicBezTo>
                <a:cubicBezTo>
                  <a:pt x="358" y="693"/>
                  <a:pt x="363" y="711"/>
                  <a:pt x="369" y="729"/>
                </a:cubicBezTo>
                <a:cubicBezTo>
                  <a:pt x="372" y="738"/>
                  <a:pt x="378" y="756"/>
                  <a:pt x="378" y="756"/>
                </a:cubicBezTo>
                <a:cubicBezTo>
                  <a:pt x="374" y="787"/>
                  <a:pt x="350" y="910"/>
                  <a:pt x="315" y="927"/>
                </a:cubicBezTo>
                <a:cubicBezTo>
                  <a:pt x="277" y="946"/>
                  <a:pt x="191" y="942"/>
                  <a:pt x="144" y="954"/>
                </a:cubicBezTo>
                <a:cubicBezTo>
                  <a:pt x="111" y="998"/>
                  <a:pt x="82" y="1042"/>
                  <a:pt x="54" y="1089"/>
                </a:cubicBezTo>
                <a:cubicBezTo>
                  <a:pt x="37" y="1157"/>
                  <a:pt x="0" y="1300"/>
                  <a:pt x="108" y="1314"/>
                </a:cubicBezTo>
                <a:cubicBezTo>
                  <a:pt x="165" y="1321"/>
                  <a:pt x="222" y="1320"/>
                  <a:pt x="279" y="1323"/>
                </a:cubicBezTo>
                <a:cubicBezTo>
                  <a:pt x="323" y="1345"/>
                  <a:pt x="329" y="1360"/>
                  <a:pt x="351" y="1404"/>
                </a:cubicBezTo>
                <a:cubicBezTo>
                  <a:pt x="326" y="1479"/>
                  <a:pt x="344" y="1442"/>
                  <a:pt x="297" y="1512"/>
                </a:cubicBezTo>
                <a:cubicBezTo>
                  <a:pt x="286" y="1529"/>
                  <a:pt x="172" y="1545"/>
                  <a:pt x="153" y="1548"/>
                </a:cubicBezTo>
                <a:cubicBezTo>
                  <a:pt x="119" y="1571"/>
                  <a:pt x="118" y="1592"/>
                  <a:pt x="99" y="1629"/>
                </a:cubicBezTo>
                <a:cubicBezTo>
                  <a:pt x="94" y="1681"/>
                  <a:pt x="59" y="1805"/>
                  <a:pt x="126" y="1827"/>
                </a:cubicBezTo>
                <a:cubicBezTo>
                  <a:pt x="151" y="1847"/>
                  <a:pt x="173" y="1870"/>
                  <a:pt x="198" y="1890"/>
                </a:cubicBezTo>
                <a:cubicBezTo>
                  <a:pt x="215" y="1903"/>
                  <a:pt x="252" y="1926"/>
                  <a:pt x="252" y="1926"/>
                </a:cubicBezTo>
                <a:cubicBezTo>
                  <a:pt x="245" y="1992"/>
                  <a:pt x="246" y="2040"/>
                  <a:pt x="198" y="20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743200" y="76320"/>
          <a:ext cx="3200400" cy="12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76320"/>
                    <a:ext cx="320040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43080" y="542880"/>
            <a:ext cx="2500200" cy="3314880"/>
          </a:xfrm>
          <a:custGeom>
            <a:avLst/>
            <a:gdLst/>
            <a:ahLst/>
            <a:rect l="l" t="t" r="r" b="b"/>
            <a:pathLst>
              <a:path w="1575" h="2088">
                <a:moveTo>
                  <a:pt x="1575" y="108"/>
                </a:moveTo>
                <a:cubicBezTo>
                  <a:pt x="1490" y="91"/>
                  <a:pt x="1407" y="77"/>
                  <a:pt x="1323" y="54"/>
                </a:cubicBezTo>
                <a:cubicBezTo>
                  <a:pt x="1280" y="22"/>
                  <a:pt x="1238" y="20"/>
                  <a:pt x="1188" y="0"/>
                </a:cubicBezTo>
                <a:cubicBezTo>
                  <a:pt x="1074" y="19"/>
                  <a:pt x="959" y="40"/>
                  <a:pt x="846" y="63"/>
                </a:cubicBezTo>
                <a:cubicBezTo>
                  <a:pt x="775" y="77"/>
                  <a:pt x="701" y="87"/>
                  <a:pt x="630" y="99"/>
                </a:cubicBezTo>
                <a:cubicBezTo>
                  <a:pt x="547" y="113"/>
                  <a:pt x="400" y="212"/>
                  <a:pt x="342" y="270"/>
                </a:cubicBezTo>
                <a:cubicBezTo>
                  <a:pt x="319" y="338"/>
                  <a:pt x="350" y="254"/>
                  <a:pt x="315" y="324"/>
                </a:cubicBezTo>
                <a:cubicBezTo>
                  <a:pt x="298" y="357"/>
                  <a:pt x="300" y="397"/>
                  <a:pt x="288" y="432"/>
                </a:cubicBezTo>
                <a:cubicBezTo>
                  <a:pt x="298" y="543"/>
                  <a:pt x="311" y="576"/>
                  <a:pt x="351" y="675"/>
                </a:cubicBezTo>
                <a:cubicBezTo>
                  <a:pt x="358" y="693"/>
                  <a:pt x="363" y="711"/>
                  <a:pt x="369" y="729"/>
                </a:cubicBezTo>
                <a:cubicBezTo>
                  <a:pt x="372" y="738"/>
                  <a:pt x="378" y="756"/>
                  <a:pt x="378" y="756"/>
                </a:cubicBezTo>
                <a:cubicBezTo>
                  <a:pt x="374" y="787"/>
                  <a:pt x="350" y="910"/>
                  <a:pt x="315" y="927"/>
                </a:cubicBezTo>
                <a:cubicBezTo>
                  <a:pt x="277" y="946"/>
                  <a:pt x="191" y="942"/>
                  <a:pt x="144" y="954"/>
                </a:cubicBezTo>
                <a:cubicBezTo>
                  <a:pt x="111" y="998"/>
                  <a:pt x="82" y="1042"/>
                  <a:pt x="54" y="1089"/>
                </a:cubicBezTo>
                <a:cubicBezTo>
                  <a:pt x="37" y="1157"/>
                  <a:pt x="0" y="1300"/>
                  <a:pt x="108" y="1314"/>
                </a:cubicBezTo>
                <a:cubicBezTo>
                  <a:pt x="165" y="1321"/>
                  <a:pt x="222" y="1320"/>
                  <a:pt x="279" y="1323"/>
                </a:cubicBezTo>
                <a:cubicBezTo>
                  <a:pt x="323" y="1345"/>
                  <a:pt x="329" y="1360"/>
                  <a:pt x="351" y="1404"/>
                </a:cubicBezTo>
                <a:cubicBezTo>
                  <a:pt x="326" y="1479"/>
                  <a:pt x="344" y="1442"/>
                  <a:pt x="297" y="1512"/>
                </a:cubicBezTo>
                <a:cubicBezTo>
                  <a:pt x="286" y="1529"/>
                  <a:pt x="172" y="1545"/>
                  <a:pt x="153" y="1548"/>
                </a:cubicBezTo>
                <a:cubicBezTo>
                  <a:pt x="119" y="1571"/>
                  <a:pt x="118" y="1592"/>
                  <a:pt x="99" y="1629"/>
                </a:cubicBezTo>
                <a:cubicBezTo>
                  <a:pt x="94" y="1681"/>
                  <a:pt x="59" y="1805"/>
                  <a:pt x="126" y="1827"/>
                </a:cubicBezTo>
                <a:cubicBezTo>
                  <a:pt x="151" y="1847"/>
                  <a:pt x="173" y="1870"/>
                  <a:pt x="198" y="1890"/>
                </a:cubicBezTo>
                <a:cubicBezTo>
                  <a:pt x="215" y="1903"/>
                  <a:pt x="252" y="1926"/>
                  <a:pt x="252" y="1926"/>
                </a:cubicBezTo>
                <a:cubicBezTo>
                  <a:pt x="245" y="1992"/>
                  <a:pt x="246" y="2040"/>
                  <a:pt x="198" y="20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92240" y="314280"/>
          <a:ext cx="69613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314280"/>
                    <a:ext cx="696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43200" y="76320"/>
          <a:ext cx="3200400" cy="12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76320"/>
                    <a:ext cx="320040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43080" y="542880"/>
            <a:ext cx="2500200" cy="3314880"/>
          </a:xfrm>
          <a:custGeom>
            <a:avLst/>
            <a:gdLst/>
            <a:ahLst/>
            <a:rect l="l" t="t" r="r" b="b"/>
            <a:pathLst>
              <a:path w="1575" h="2088">
                <a:moveTo>
                  <a:pt x="1575" y="108"/>
                </a:moveTo>
                <a:cubicBezTo>
                  <a:pt x="1490" y="91"/>
                  <a:pt x="1407" y="77"/>
                  <a:pt x="1323" y="54"/>
                </a:cubicBezTo>
                <a:cubicBezTo>
                  <a:pt x="1280" y="22"/>
                  <a:pt x="1238" y="20"/>
                  <a:pt x="1188" y="0"/>
                </a:cubicBezTo>
                <a:cubicBezTo>
                  <a:pt x="1074" y="19"/>
                  <a:pt x="959" y="40"/>
                  <a:pt x="846" y="63"/>
                </a:cubicBezTo>
                <a:cubicBezTo>
                  <a:pt x="775" y="77"/>
                  <a:pt x="701" y="87"/>
                  <a:pt x="630" y="99"/>
                </a:cubicBezTo>
                <a:cubicBezTo>
                  <a:pt x="547" y="113"/>
                  <a:pt x="400" y="212"/>
                  <a:pt x="342" y="270"/>
                </a:cubicBezTo>
                <a:cubicBezTo>
                  <a:pt x="319" y="338"/>
                  <a:pt x="350" y="254"/>
                  <a:pt x="315" y="324"/>
                </a:cubicBezTo>
                <a:cubicBezTo>
                  <a:pt x="298" y="357"/>
                  <a:pt x="300" y="397"/>
                  <a:pt x="288" y="432"/>
                </a:cubicBezTo>
                <a:cubicBezTo>
                  <a:pt x="298" y="543"/>
                  <a:pt x="311" y="576"/>
                  <a:pt x="351" y="675"/>
                </a:cubicBezTo>
                <a:cubicBezTo>
                  <a:pt x="358" y="693"/>
                  <a:pt x="363" y="711"/>
                  <a:pt x="369" y="729"/>
                </a:cubicBezTo>
                <a:cubicBezTo>
                  <a:pt x="372" y="738"/>
                  <a:pt x="378" y="756"/>
                  <a:pt x="378" y="756"/>
                </a:cubicBezTo>
                <a:cubicBezTo>
                  <a:pt x="374" y="787"/>
                  <a:pt x="350" y="910"/>
                  <a:pt x="315" y="927"/>
                </a:cubicBezTo>
                <a:cubicBezTo>
                  <a:pt x="277" y="946"/>
                  <a:pt x="191" y="942"/>
                  <a:pt x="144" y="954"/>
                </a:cubicBezTo>
                <a:cubicBezTo>
                  <a:pt x="111" y="998"/>
                  <a:pt x="82" y="1042"/>
                  <a:pt x="54" y="1089"/>
                </a:cubicBezTo>
                <a:cubicBezTo>
                  <a:pt x="37" y="1157"/>
                  <a:pt x="0" y="1300"/>
                  <a:pt x="108" y="1314"/>
                </a:cubicBezTo>
                <a:cubicBezTo>
                  <a:pt x="165" y="1321"/>
                  <a:pt x="222" y="1320"/>
                  <a:pt x="279" y="1323"/>
                </a:cubicBezTo>
                <a:cubicBezTo>
                  <a:pt x="323" y="1345"/>
                  <a:pt x="329" y="1360"/>
                  <a:pt x="351" y="1404"/>
                </a:cubicBezTo>
                <a:cubicBezTo>
                  <a:pt x="326" y="1479"/>
                  <a:pt x="344" y="1442"/>
                  <a:pt x="297" y="1512"/>
                </a:cubicBezTo>
                <a:cubicBezTo>
                  <a:pt x="286" y="1529"/>
                  <a:pt x="172" y="1545"/>
                  <a:pt x="153" y="1548"/>
                </a:cubicBezTo>
                <a:cubicBezTo>
                  <a:pt x="119" y="1571"/>
                  <a:pt x="118" y="1592"/>
                  <a:pt x="99" y="1629"/>
                </a:cubicBezTo>
                <a:cubicBezTo>
                  <a:pt x="94" y="1681"/>
                  <a:pt x="59" y="1805"/>
                  <a:pt x="126" y="1827"/>
                </a:cubicBezTo>
                <a:cubicBezTo>
                  <a:pt x="151" y="1847"/>
                  <a:pt x="173" y="1870"/>
                  <a:pt x="198" y="1890"/>
                </a:cubicBezTo>
                <a:cubicBezTo>
                  <a:pt x="215" y="1903"/>
                  <a:pt x="252" y="1926"/>
                  <a:pt x="252" y="1926"/>
                </a:cubicBezTo>
                <a:cubicBezTo>
                  <a:pt x="245" y="1992"/>
                  <a:pt x="246" y="2040"/>
                  <a:pt x="198" y="20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20:12:31Z</dcterms:created>
  <dc:creator>Carol Shockley</dc:creator>
  <dc:description/>
  <dc:language>en-US</dc:language>
  <cp:lastModifiedBy>Carol Shockley</cp:lastModifiedBy>
  <dcterms:modified xsi:type="dcterms:W3CDTF">2003-04-23T17:11:41Z</dcterms:modified>
  <cp:revision>14</cp:revision>
  <dc:subject/>
  <dc:title>PowerPoint Presentation</dc:title>
</cp:coreProperties>
</file>